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567C-C19C-492D-BE43-E7C31E8DE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2E22-A8B9-4914-88E0-5280534D5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C9AA-6BB7-4441-9BC4-26E76F326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F43-9685-4CD8-8FFE-E858011B6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784A-0FD3-4FB5-9E1C-77E27DD27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B275-4A8D-47C5-AB06-44BCDDC20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E3FD-3A1B-4B05-B193-795685281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26E3-B160-4AAE-98B2-BBB6B7226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51CA-8D9D-4E1C-9ECB-206B30F7F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65AD-AFA7-4F12-8505-80FCB5A79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BF1B-6B3E-42E7-AABF-3CD63466D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9A07-09BF-4CAA-93FD-C02E2B307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929C-0C70-4880-B396-B9E16F43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5F55-75F4-4A1F-99A0-1F1979682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7507-4D20-48C8-A88C-20B0A31F5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2FE5-87D3-42DF-B7F9-86002D902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C6AA-7F41-42D0-BE64-B5C35C72F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10F8-4316-4DBF-B954-F07383FEE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6884-AA34-4B37-9133-8E150B776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D7A3-C37D-4445-AD26-7B7C00A7B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C122-2DEC-4A58-A0D2-677F4BCD3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31A9-9FF7-44FF-9053-91A168BB9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B485-65EC-49F7-9C8F-52D3BFA24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AA72-F797-402F-8488-4DC2E0467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AF56-B47A-4843-9D39-13E3BB867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4DF9-47C7-42FE-A733-353D616E0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09E9-CA70-4915-88A5-B3D66DFBD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C5AE-5189-4F67-B325-9218FE86B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D671-5D2A-4B9B-9F3A-F7918B929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27D6-BFAE-4ED6-979E-065725722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8488-80A9-4259-9D62-574F8F228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0A8D-B78A-49D8-9A44-6E03140B1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010C-91AE-4C38-9ACE-D04609F06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21A9-4F3F-433B-A01A-5FB4A569C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1639-6217-4BAF-BD56-62B9294B0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C97E-0977-4F0A-9FDC-D82090EA8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C7B0-9C14-472B-AABF-679F666F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C43C-F1CD-4467-A278-97DC83ED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3C92-CFEC-4106-96C4-632362ECB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DE33-791A-4330-928C-30537224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82F9-5DB0-4567-A895-32BA20498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B503-71BB-4E64-BFF7-976B5AF7B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B60A-5855-4929-81D5-44AF61E68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4526-6BF1-44BC-9151-F430F7148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2484-4CB1-4AC1-B4EC-77CED475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D2D7-199B-42F1-988F-9C16B01BA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44B-F0F8-46E0-8910-B162D0F93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A8FE-C096-43BE-B150-845CF1027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D409-D5E5-44F5-B289-725AB65C2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460D-5D03-4D31-912D-A58A029A1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B29C-0273-494B-BB2F-1F2AE6215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5284-0317-44C1-90D1-68CBAD8F7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485C-4D25-40FD-8673-50ABCDA1F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7A59-A3C2-4D57-B79A-FB5F16A55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EE90-4F26-43CB-8FA2-3524A69AF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737D-92EF-42ED-A00D-CA259EC67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985C-4CBE-412D-80E4-EC17950E1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7B10-4EF8-4310-B260-AC7C072FD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3DD9-D77E-4AE1-8197-2A428A9DE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BA4C-D774-4301-8042-C4A2A5592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425840"/>
            <a:ext cx="84232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EB72-4AE2-472B-AE5F-48C81E530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42584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442584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673F-6297-447D-AA38-7AA082D41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216036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5920" y="216036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42584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442584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5920" y="442584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6236-234E-4611-B613-B68A5FF1F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41104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2160360"/>
            <a:ext cx="41104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0360" y="360360"/>
            <a:ext cx="842328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2160360"/>
            <a:ext cx="41104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60360" y="442584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81D4-0DC9-45EA-B0E6-0D65B7C2A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41104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442584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360" y="4425840"/>
            <a:ext cx="84232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0360" y="4425840"/>
            <a:ext cx="84232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0360" y="442584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442584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8320" y="216036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5920" y="216036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0360" y="442584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8320" y="442584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5920" y="4425840"/>
            <a:ext cx="27118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0F40-4507-46AD-86D1-BC94B878A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41104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2160360"/>
            <a:ext cx="41104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DBC2-21AF-48D0-9FE3-45A02CED7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543F-FB31-4EC8-86DA-983C57FB7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360360"/>
            <a:ext cx="842328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2B1A-E827-4B45-BA25-415E03053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2160360"/>
            <a:ext cx="41104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42584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34DD-529E-4986-A645-F28C1B3C6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41104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442584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14CD-C3B2-4FD1-A3A3-CCAE5527B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2160360"/>
            <a:ext cx="4110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425840"/>
            <a:ext cx="84232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6263-8113-413C-B5E5-B7B3A14F2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ody Colour"/>
          <p:cNvSpPr/>
          <p:nvPr/>
        </p:nvSpPr>
        <p:spPr>
          <a:xfrm>
            <a:off x="0" y="1800360"/>
            <a:ext cx="9144000" cy="50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itle Colour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50C9-9BE2-4CDF-9D79-30632BC1A90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ody Colour"/>
          <p:cNvSpPr/>
          <p:nvPr/>
        </p:nvSpPr>
        <p:spPr>
          <a:xfrm>
            <a:off x="0" y="1800360"/>
            <a:ext cx="9144000" cy="50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itle Colour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urse on Analytical Thinking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-3625560"/>
            <a:ext cx="144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89C7-F3CB-4C6F-9957-BAF879CA517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ing th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liberate process of breaking a problem down through the application of knowledge and various analyt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mpor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the facts is required to prove or disprove the hypo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rovides an understanding of issues and drivers behind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asic Concep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generally better to spend more time analyzing the data and information as opposed to collecting them. The goal is to find the “golden nuggets” that quickly confirm or deny a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cause analysis, storyboarding, and force field analysis are some of many analytical techniques that can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7467480" y="152280"/>
            <a:ext cx="1524240" cy="1524240"/>
            <a:chOff x="7467480" y="152280"/>
            <a:chExt cx="1524240" cy="1524240"/>
          </a:xfrm>
        </p:grpSpPr>
        <p:sp>
          <p:nvSpPr>
            <p:cNvPr id="168" name="Oval 5"/>
            <p:cNvSpPr/>
            <p:nvPr/>
          </p:nvSpPr>
          <p:spPr>
            <a:xfrm>
              <a:off x="7467480" y="152280"/>
              <a:ext cx="1524240" cy="152424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7567200" y="252000"/>
              <a:ext cx="1324440" cy="13244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>
              <a:off x="8042040" y="37692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Proble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>
              <a:off x="8416800" y="651600"/>
              <a:ext cx="37476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Hypothesi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>
              <a:off x="8267040" y="10638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Fac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7817400" y="10638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Analysi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>
              <a:off x="7692120" y="6516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Solu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12"/>
            <p:cNvSpPr/>
            <p:nvPr/>
          </p:nvSpPr>
          <p:spPr>
            <a:xfrm rot="18000000">
              <a:off x="8525520" y="426600"/>
              <a:ext cx="49680" cy="224640"/>
            </a:xfrm>
            <a:custGeom>
              <a:avLst/>
              <a:gdLst>
                <a:gd name="textAreaLeft" fmla="*/ 6480 w 49680"/>
                <a:gd name="textAreaRight" fmla="*/ 43200 w 4968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utoShape 13"/>
            <p:cNvSpPr/>
            <p:nvPr/>
          </p:nvSpPr>
          <p:spPr>
            <a:xfrm rot="900000">
              <a:off x="8691840" y="976320"/>
              <a:ext cx="49320" cy="225000"/>
            </a:xfrm>
            <a:custGeom>
              <a:avLst/>
              <a:gdLst>
                <a:gd name="textAreaLeft" fmla="*/ 6480 w 49320"/>
                <a:gd name="textAreaRight" fmla="*/ 42840 w 49320"/>
                <a:gd name="textAreaTop" fmla="*/ 39240 h 225000"/>
                <a:gd name="textAreaBottom" fmla="*/ 16308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AutoShape 14"/>
            <p:cNvSpPr/>
            <p:nvPr/>
          </p:nvSpPr>
          <p:spPr>
            <a:xfrm rot="5400000">
              <a:off x="8204040" y="1301400"/>
              <a:ext cx="50040" cy="224640"/>
            </a:xfrm>
            <a:custGeom>
              <a:avLst/>
              <a:gdLst>
                <a:gd name="textAreaLeft" fmla="*/ 6480 w 50040"/>
                <a:gd name="textAreaRight" fmla="*/ 43560 w 5004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utoShape 15"/>
            <p:cNvSpPr/>
            <p:nvPr/>
          </p:nvSpPr>
          <p:spPr>
            <a:xfrm rot="9900000">
              <a:off x="7716960" y="975960"/>
              <a:ext cx="49680" cy="225000"/>
            </a:xfrm>
            <a:custGeom>
              <a:avLst/>
              <a:gdLst>
                <a:gd name="textAreaLeft" fmla="*/ 6480 w 49680"/>
                <a:gd name="textAreaRight" fmla="*/ 43200 w 49680"/>
                <a:gd name="textAreaTop" fmla="*/ 39240 h 225000"/>
                <a:gd name="textAreaBottom" fmla="*/ 16308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6"/>
            <p:cNvSpPr/>
            <p:nvPr/>
          </p:nvSpPr>
          <p:spPr>
            <a:xfrm rot="13500000">
              <a:off x="7904520" y="414000"/>
              <a:ext cx="49320" cy="224640"/>
            </a:xfrm>
            <a:custGeom>
              <a:avLst/>
              <a:gdLst>
                <a:gd name="textAreaLeft" fmla="*/ 6480 w 49320"/>
                <a:gd name="textAreaRight" fmla="*/ 42840 w 4932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A68F-A3A8-4FC1-A4C7-256A4E638A8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 are the final recommendations presented to our clients based on the outcomes of the 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mport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 are what our clients pay us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Basic Con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to ensure the solution fits the client – solutions are useless if they canno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an actual example through the solution is an effective way of testing the effectiveness and viability of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7467480" y="152280"/>
            <a:ext cx="1524240" cy="1524240"/>
            <a:chOff x="7467480" y="152280"/>
            <a:chExt cx="1524240" cy="1524240"/>
          </a:xfrm>
        </p:grpSpPr>
        <p:sp>
          <p:nvSpPr>
            <p:cNvPr id="184" name="Oval 5"/>
            <p:cNvSpPr/>
            <p:nvPr/>
          </p:nvSpPr>
          <p:spPr>
            <a:xfrm>
              <a:off x="7467480" y="152280"/>
              <a:ext cx="1524240" cy="152424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7567200" y="252000"/>
              <a:ext cx="1324440" cy="13244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AutoShape 7"/>
            <p:cNvSpPr/>
            <p:nvPr/>
          </p:nvSpPr>
          <p:spPr>
            <a:xfrm>
              <a:off x="8042040" y="37692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Proble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8"/>
            <p:cNvSpPr/>
            <p:nvPr/>
          </p:nvSpPr>
          <p:spPr>
            <a:xfrm>
              <a:off x="8416800" y="651600"/>
              <a:ext cx="37476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Hypothesi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9"/>
            <p:cNvSpPr/>
            <p:nvPr/>
          </p:nvSpPr>
          <p:spPr>
            <a:xfrm>
              <a:off x="8267040" y="10638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Fac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7817400" y="10638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Analysi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7692120" y="6516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Solu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AutoShape 12"/>
            <p:cNvSpPr/>
            <p:nvPr/>
          </p:nvSpPr>
          <p:spPr>
            <a:xfrm rot="18000000">
              <a:off x="8525520" y="426600"/>
              <a:ext cx="49680" cy="224640"/>
            </a:xfrm>
            <a:custGeom>
              <a:avLst/>
              <a:gdLst>
                <a:gd name="textAreaLeft" fmla="*/ 6480 w 49680"/>
                <a:gd name="textAreaRight" fmla="*/ 43200 w 4968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 rot="900000">
              <a:off x="8691840" y="976320"/>
              <a:ext cx="49320" cy="225000"/>
            </a:xfrm>
            <a:custGeom>
              <a:avLst/>
              <a:gdLst>
                <a:gd name="textAreaLeft" fmla="*/ 6480 w 49320"/>
                <a:gd name="textAreaRight" fmla="*/ 42840 w 49320"/>
                <a:gd name="textAreaTop" fmla="*/ 39240 h 225000"/>
                <a:gd name="textAreaBottom" fmla="*/ 16308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AutoShape 14"/>
            <p:cNvSpPr/>
            <p:nvPr/>
          </p:nvSpPr>
          <p:spPr>
            <a:xfrm rot="5400000">
              <a:off x="8204040" y="1301400"/>
              <a:ext cx="50040" cy="224640"/>
            </a:xfrm>
            <a:custGeom>
              <a:avLst/>
              <a:gdLst>
                <a:gd name="textAreaLeft" fmla="*/ 6480 w 50040"/>
                <a:gd name="textAreaRight" fmla="*/ 43560 w 5004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 rot="9900000">
              <a:off x="7716960" y="975960"/>
              <a:ext cx="49680" cy="225000"/>
            </a:xfrm>
            <a:custGeom>
              <a:avLst/>
              <a:gdLst>
                <a:gd name="textAreaLeft" fmla="*/ 6480 w 49680"/>
                <a:gd name="textAreaRight" fmla="*/ 43200 w 49680"/>
                <a:gd name="textAreaTop" fmla="*/ 39240 h 225000"/>
                <a:gd name="textAreaBottom" fmla="*/ 16308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 rot="13500000">
              <a:off x="7904520" y="414000"/>
              <a:ext cx="49320" cy="224640"/>
            </a:xfrm>
            <a:custGeom>
              <a:avLst/>
              <a:gdLst>
                <a:gd name="textAreaLeft" fmla="*/ 6480 w 49320"/>
                <a:gd name="textAreaRight" fmla="*/ 42840 w 4932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 AND TECHNIQU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DEFINING THE PROBLE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0" y="-3625560"/>
            <a:ext cx="144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A1B7-AF3F-4374-8BE6-0402B910352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becomes known when a person observes a discrepancy between the way things are and the way things ought to be.  Problems can be identified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/benchmarking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reporting - assessment of current performance against goals and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ysis – assessment of strengths, weaknesses, opportunities, and 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A964-8862-4CF8-B9D2-3F17300E8F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to the "Root"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 thing we think is a problem is not the real problem, so to get at the real problem, probing i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ot Cause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ffective method of probing – it helps identify what, how, and why something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ot c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underlying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that can reasonably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that management has control to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9386-689D-409C-8DD8-57CEBBDCFBE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Cause Analysis Technique 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ve Why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180880"/>
            <a:ext cx="777240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e"/>
                </a:solidFill>
                <a:latin typeface="Arial"/>
              </a:rPr>
              <a:t>Five Why'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efers to the practice of asking, five times, why the problem exists in order to get to the root cause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1752480" y="3686040"/>
            <a:ext cx="1295640" cy="1295640"/>
          </a:xfrm>
          <a:prstGeom prst="diamond">
            <a:avLst/>
          </a:prstGeom>
          <a:gradFill rotWithShape="0">
            <a:gsLst>
              <a:gs pos="0">
                <a:srgbClr val="0000ce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3238560" y="3686040"/>
            <a:ext cx="1295280" cy="1295640"/>
          </a:xfrm>
          <a:prstGeom prst="diamond">
            <a:avLst/>
          </a:prstGeom>
          <a:gradFill rotWithShape="0">
            <a:gsLst>
              <a:gs pos="0">
                <a:srgbClr val="0000ce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4724280" y="3686040"/>
            <a:ext cx="1295640" cy="1295640"/>
          </a:xfrm>
          <a:prstGeom prst="diamond">
            <a:avLst/>
          </a:prstGeom>
          <a:gradFill rotWithShape="0">
            <a:gsLst>
              <a:gs pos="0">
                <a:srgbClr val="0000ce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6210360" y="3686040"/>
            <a:ext cx="1295280" cy="1295640"/>
          </a:xfrm>
          <a:prstGeom prst="diamond">
            <a:avLst/>
          </a:prstGeom>
          <a:gradFill rotWithShape="0">
            <a:gsLst>
              <a:gs pos="0">
                <a:srgbClr val="0000ce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7696080" y="3686040"/>
            <a:ext cx="1295640" cy="1295640"/>
          </a:xfrm>
          <a:prstGeom prst="diamond">
            <a:avLst/>
          </a:prstGeom>
          <a:gradFill rotWithShape="0">
            <a:gsLst>
              <a:gs pos="0">
                <a:srgbClr val="0000ce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10"/>
          <p:cNvCxnSpPr>
            <a:stCxn id="207" idx="3"/>
            <a:endCxn id="208" idx="1"/>
          </p:cNvCxnSpPr>
          <p:nvPr/>
        </p:nvCxnSpPr>
        <p:spPr>
          <a:xfrm>
            <a:off x="3047760" y="4333680"/>
            <a:ext cx="191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213" name="AutoShape 11"/>
          <p:cNvCxnSpPr>
            <a:stCxn id="208" idx="3"/>
            <a:endCxn id="209" idx="1"/>
          </p:cNvCxnSpPr>
          <p:nvPr/>
        </p:nvCxnSpPr>
        <p:spPr>
          <a:xfrm>
            <a:off x="4533480" y="4333680"/>
            <a:ext cx="191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214" name="AutoShape 12"/>
          <p:cNvCxnSpPr>
            <a:stCxn id="209" idx="3"/>
            <a:endCxn id="210" idx="1"/>
          </p:cNvCxnSpPr>
          <p:nvPr/>
        </p:nvCxnSpPr>
        <p:spPr>
          <a:xfrm>
            <a:off x="6019560" y="4333680"/>
            <a:ext cx="191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215" name="AutoShape 13"/>
          <p:cNvCxnSpPr>
            <a:stCxn id="210" idx="3"/>
            <a:endCxn id="211" idx="1"/>
          </p:cNvCxnSpPr>
          <p:nvPr/>
        </p:nvCxnSpPr>
        <p:spPr>
          <a:xfrm>
            <a:off x="7505280" y="4333680"/>
            <a:ext cx="191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</p:cxnSp>
      <p:sp>
        <p:nvSpPr>
          <p:cNvPr id="216" name="AutoShape 14"/>
          <p:cNvSpPr/>
          <p:nvPr/>
        </p:nvSpPr>
        <p:spPr>
          <a:xfrm>
            <a:off x="76320" y="3686040"/>
            <a:ext cx="1447560" cy="1295640"/>
          </a:xfrm>
          <a:prstGeom prst="parallelogram">
            <a:avLst>
              <a:gd name="adj" fmla="val 27931"/>
            </a:avLst>
          </a:prstGeom>
          <a:gradFill rotWithShape="0">
            <a:gsLst>
              <a:gs pos="0">
                <a:srgbClr val="a5002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mployee turnover rate has bee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15"/>
          <p:cNvCxnSpPr>
            <a:stCxn id="216" idx="2"/>
            <a:endCxn id="207" idx="1"/>
          </p:cNvCxnSpPr>
          <p:nvPr/>
        </p:nvCxnSpPr>
        <p:spPr>
          <a:xfrm>
            <a:off x="1342800" y="4333680"/>
            <a:ext cx="410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</p:cxnSp>
      <p:sp>
        <p:nvSpPr>
          <p:cNvPr id="218" name="Line 18"/>
          <p:cNvSpPr/>
          <p:nvPr/>
        </p:nvSpPr>
        <p:spPr>
          <a:xfrm>
            <a:off x="2400480" y="4952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3887640" y="4952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5369040" y="4952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6856560" y="4952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8344080" y="4952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1619280" y="5397480"/>
            <a:ext cx="150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Employees are leaving for other jo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3143160" y="539748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Employees are not satis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4591080" y="5397480"/>
            <a:ext cx="150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Employees feel that they are underp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4960" y="5397480"/>
            <a:ext cx="150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Other employers are paying higher sal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7639200" y="5397480"/>
            <a:ext cx="1504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Demand for such employees has increased in the marke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3456-7344-476E-BAF3-393573339B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Cause Analysis Technique 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shbon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498600" y="56228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value of the </a:t>
            </a:r>
            <a:r>
              <a:rPr b="1" i="1" lang="en-US" sz="2000" spc="-1" strike="noStrike">
                <a:solidFill>
                  <a:srgbClr val="0000ce"/>
                </a:solidFill>
                <a:latin typeface="Arial"/>
              </a:rPr>
              <a:t>Fishbone Diagra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s that it provides a method for categorizing the many potential causes of problems or issues in an orderly way and in identifying root c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762120" y="4191120"/>
            <a:ext cx="71625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8"/>
          <p:cNvSpPr/>
          <p:nvPr/>
        </p:nvSpPr>
        <p:spPr>
          <a:xfrm flipV="1">
            <a:off x="2590920" y="3200400"/>
            <a:ext cx="1828800" cy="99072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0"/>
          <p:cNvSpPr/>
          <p:nvPr/>
        </p:nvSpPr>
        <p:spPr>
          <a:xfrm>
            <a:off x="2590920" y="4191120"/>
            <a:ext cx="1828800" cy="121896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4"/>
          <p:cNvSpPr/>
          <p:nvPr/>
        </p:nvSpPr>
        <p:spPr>
          <a:xfrm>
            <a:off x="3429000" y="3733920"/>
            <a:ext cx="16765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5"/>
          <p:cNvSpPr/>
          <p:nvPr/>
        </p:nvSpPr>
        <p:spPr>
          <a:xfrm>
            <a:off x="3429000" y="4753080"/>
            <a:ext cx="16765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6"/>
          <p:cNvSpPr/>
          <p:nvPr/>
        </p:nvSpPr>
        <p:spPr>
          <a:xfrm>
            <a:off x="3349080" y="309096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Ca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7"/>
          <p:cNvSpPr/>
          <p:nvPr/>
        </p:nvSpPr>
        <p:spPr>
          <a:xfrm>
            <a:off x="4445280" y="33876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8"/>
          <p:cNvSpPr/>
          <p:nvPr/>
        </p:nvSpPr>
        <p:spPr>
          <a:xfrm>
            <a:off x="3342960" y="517356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Ca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9"/>
          <p:cNvSpPr/>
          <p:nvPr/>
        </p:nvSpPr>
        <p:spPr>
          <a:xfrm>
            <a:off x="4439160" y="48182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0"/>
          <p:cNvSpPr/>
          <p:nvPr/>
        </p:nvSpPr>
        <p:spPr>
          <a:xfrm flipV="1">
            <a:off x="4883040" y="3195360"/>
            <a:ext cx="1828800" cy="99036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1"/>
          <p:cNvSpPr/>
          <p:nvPr/>
        </p:nvSpPr>
        <p:spPr>
          <a:xfrm>
            <a:off x="4883040" y="4186080"/>
            <a:ext cx="1828800" cy="121932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2"/>
          <p:cNvSpPr/>
          <p:nvPr/>
        </p:nvSpPr>
        <p:spPr>
          <a:xfrm>
            <a:off x="5721480" y="3728880"/>
            <a:ext cx="16761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3"/>
          <p:cNvSpPr/>
          <p:nvPr/>
        </p:nvSpPr>
        <p:spPr>
          <a:xfrm>
            <a:off x="5721480" y="4748040"/>
            <a:ext cx="16761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4"/>
          <p:cNvSpPr/>
          <p:nvPr/>
        </p:nvSpPr>
        <p:spPr>
          <a:xfrm>
            <a:off x="5641560" y="30862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Ca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5"/>
          <p:cNvSpPr/>
          <p:nvPr/>
        </p:nvSpPr>
        <p:spPr>
          <a:xfrm>
            <a:off x="6737760" y="3382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6"/>
          <p:cNvSpPr/>
          <p:nvPr/>
        </p:nvSpPr>
        <p:spPr>
          <a:xfrm>
            <a:off x="5635080" y="5168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Ca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7"/>
          <p:cNvSpPr/>
          <p:nvPr/>
        </p:nvSpPr>
        <p:spPr>
          <a:xfrm>
            <a:off x="6731280" y="48132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8"/>
          <p:cNvSpPr/>
          <p:nvPr/>
        </p:nvSpPr>
        <p:spPr>
          <a:xfrm>
            <a:off x="500040" y="19494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e"/>
                </a:solidFill>
                <a:latin typeface="Arial"/>
              </a:rPr>
              <a:t>Fishbone Diagram (a.k.a. Cause and Effect Diagram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s an analysis tool that provides a systematic way of looking at effects and the causes that create or contribute to those eff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9"/>
          <p:cNvSpPr/>
          <p:nvPr/>
        </p:nvSpPr>
        <p:spPr>
          <a:xfrm>
            <a:off x="687240" y="38098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Result (Probl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8BF7-1B3C-425D-A027-A6B431B3DBD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Root Cause Analysis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Field Analysis – Visually show forces that impact your problem or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 Diagrams – Graphs the relationship of two variables – quantifies the correlation, showing how one variable influences anothe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Mapping – Maps the “as is” flow of activities that make up a process – look for excessive handoffs, redundancies, and other root causes of ineffici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ing – Compares existing performance to another internal or external source, identifies issues not otherwise revealed through other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FF7D-6147-4E35-AE16-E9EBD2B4BDA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Questions to Ask in Defining the Problem (regardless of the technique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2479680" cy="11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o is causing the probl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o says this is a probl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o are impacted by this probl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457200" y="2133720"/>
            <a:ext cx="2438280" cy="5331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3429000" y="2133720"/>
            <a:ext cx="2438280" cy="5331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6400800" y="2133720"/>
            <a:ext cx="2438280" cy="5331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457200" y="4267080"/>
            <a:ext cx="2438280" cy="5335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3429000" y="4267080"/>
            <a:ext cx="2438280" cy="5335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6400800" y="4267080"/>
            <a:ext cx="2438280" cy="5335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3429000" y="2819520"/>
            <a:ext cx="24796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at will happen if this problem is not solv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at are the symptom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at are the impact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6435720" y="2819520"/>
            <a:ext cx="24796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ere does this problem occu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ere does this problem have an impac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457200" y="4952880"/>
            <a:ext cx="24796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en does this problem occu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en did this problem first start occurr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3429000" y="4952880"/>
            <a:ext cx="247968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y is this problem occurr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Wh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6435720" y="4952880"/>
            <a:ext cx="247968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How should the process or system wor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How are people currently handling the problem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Arial Narrow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 AND TECHNIQU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FORMULATING THE HYPOTHES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0" y="-3625560"/>
            <a:ext cx="144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ABA0-FE4D-43D2-B80B-A88FA60791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3"/>
          <p:cNvSpPr/>
          <p:nvPr/>
        </p:nvSpPr>
        <p:spPr>
          <a:xfrm>
            <a:off x="1828800" y="2362320"/>
            <a:ext cx="5257800" cy="30477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4"/>
          <p:cNvSpPr/>
          <p:nvPr/>
        </p:nvSpPr>
        <p:spPr>
          <a:xfrm>
            <a:off x="2057400" y="2514600"/>
            <a:ext cx="4724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ing the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ng the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ng th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BE03-DF3D-40DD-8F8C-2D3CC484C55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sue Diagr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n effective method for breaking down problems and formula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09480" y="4495680"/>
            <a:ext cx="14479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514600" y="2971800"/>
            <a:ext cx="144792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sue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2514600" y="4495680"/>
            <a:ext cx="144792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sue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514600" y="6019920"/>
            <a:ext cx="144792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sue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AutoShape 9"/>
          <p:cNvCxnSpPr>
            <a:stCxn id="271" idx="3"/>
            <a:endCxn id="272" idx="1"/>
          </p:cNvCxnSpPr>
          <p:nvPr/>
        </p:nvCxnSpPr>
        <p:spPr>
          <a:xfrm flipV="1">
            <a:off x="2057400" y="3161880"/>
            <a:ext cx="457920" cy="1524960"/>
          </a:xfrm>
          <a:prstGeom prst="bentConnector3">
            <a:avLst>
              <a:gd name="adj1" fmla="val 499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6" name="AutoShape 10"/>
          <p:cNvCxnSpPr>
            <a:stCxn id="271" idx="3"/>
            <a:endCxn id="273" idx="1"/>
          </p:cNvCxnSpPr>
          <p:nvPr/>
        </p:nvCxnSpPr>
        <p:spPr>
          <a:xfrm>
            <a:off x="2057400" y="468612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AutoShape 11"/>
          <p:cNvCxnSpPr>
            <a:stCxn id="271" idx="3"/>
            <a:endCxn id="274" idx="1"/>
          </p:cNvCxnSpPr>
          <p:nvPr/>
        </p:nvCxnSpPr>
        <p:spPr>
          <a:xfrm>
            <a:off x="2057400" y="4686120"/>
            <a:ext cx="457920" cy="1524600"/>
          </a:xfrm>
          <a:prstGeom prst="bentConnector3">
            <a:avLst>
              <a:gd name="adj1" fmla="val 4996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Rectangle 12"/>
          <p:cNvSpPr/>
          <p:nvPr/>
        </p:nvSpPr>
        <p:spPr>
          <a:xfrm>
            <a:off x="4495680" y="1981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ypothesis #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4495680" y="264168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ypothesis #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4495680" y="330192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ypothesis #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4495680" y="396252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ypothesis #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16"/>
          <p:cNvCxnSpPr>
            <a:stCxn id="272" idx="3"/>
            <a:endCxn id="278" idx="1"/>
          </p:cNvCxnSpPr>
          <p:nvPr/>
        </p:nvCxnSpPr>
        <p:spPr>
          <a:xfrm flipV="1">
            <a:off x="3962160" y="2171160"/>
            <a:ext cx="533880" cy="991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3" name="AutoShape 17"/>
          <p:cNvCxnSpPr>
            <a:stCxn id="272" idx="3"/>
            <a:endCxn id="279" idx="1"/>
          </p:cNvCxnSpPr>
          <p:nvPr/>
        </p:nvCxnSpPr>
        <p:spPr>
          <a:xfrm flipV="1">
            <a:off x="3962160" y="2831400"/>
            <a:ext cx="533880" cy="330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4" name="AutoShape 18"/>
          <p:cNvCxnSpPr>
            <a:stCxn id="272" idx="3"/>
            <a:endCxn id="280" idx="1"/>
          </p:cNvCxnSpPr>
          <p:nvPr/>
        </p:nvCxnSpPr>
        <p:spPr>
          <a:xfrm>
            <a:off x="3962160" y="3161880"/>
            <a:ext cx="533880" cy="330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5" name="AutoShape 19"/>
          <p:cNvCxnSpPr>
            <a:stCxn id="272" idx="3"/>
            <a:endCxn id="281" idx="1"/>
          </p:cNvCxnSpPr>
          <p:nvPr/>
        </p:nvCxnSpPr>
        <p:spPr>
          <a:xfrm>
            <a:off x="3962160" y="3162240"/>
            <a:ext cx="533880" cy="9914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Rectangle 20"/>
          <p:cNvSpPr/>
          <p:nvPr/>
        </p:nvSpPr>
        <p:spPr>
          <a:xfrm>
            <a:off x="6477120" y="2514600"/>
            <a:ext cx="18288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Key Questions  #1C-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6477120" y="3048120"/>
            <a:ext cx="18288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Key Questions  #1C-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6477120" y="3581280"/>
            <a:ext cx="1828800" cy="381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Key Questions  #1C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6477120" y="4191120"/>
            <a:ext cx="18288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Key Questions  #1C-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5"/>
          <p:cNvCxnSpPr>
            <a:stCxn id="280" idx="3"/>
            <a:endCxn id="286" idx="1"/>
          </p:cNvCxnSpPr>
          <p:nvPr/>
        </p:nvCxnSpPr>
        <p:spPr>
          <a:xfrm flipV="1">
            <a:off x="5943600" y="2704320"/>
            <a:ext cx="534240" cy="788040"/>
          </a:xfrm>
          <a:prstGeom prst="bentConnector3">
            <a:avLst>
              <a:gd name="adj1" fmla="val 49966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91" name="AutoShape 26"/>
          <p:cNvCxnSpPr>
            <a:stCxn id="280" idx="3"/>
            <a:endCxn id="287" idx="1"/>
          </p:cNvCxnSpPr>
          <p:nvPr/>
        </p:nvCxnSpPr>
        <p:spPr>
          <a:xfrm flipV="1">
            <a:off x="5943600" y="3237840"/>
            <a:ext cx="534240" cy="254520"/>
          </a:xfrm>
          <a:prstGeom prst="bentConnector3">
            <a:avLst>
              <a:gd name="adj1" fmla="val 49966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92" name="AutoShape 27"/>
          <p:cNvCxnSpPr>
            <a:stCxn id="280" idx="3"/>
            <a:endCxn id="288" idx="1"/>
          </p:cNvCxnSpPr>
          <p:nvPr/>
        </p:nvCxnSpPr>
        <p:spPr>
          <a:xfrm>
            <a:off x="5943600" y="3492000"/>
            <a:ext cx="534240" cy="280440"/>
          </a:xfrm>
          <a:prstGeom prst="bentConnector3">
            <a:avLst>
              <a:gd name="adj1" fmla="val 49966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93" name="AutoShape 28"/>
          <p:cNvCxnSpPr>
            <a:stCxn id="280" idx="3"/>
            <a:endCxn id="289" idx="1"/>
          </p:cNvCxnSpPr>
          <p:nvPr/>
        </p:nvCxnSpPr>
        <p:spPr>
          <a:xfrm>
            <a:off x="5943600" y="3492360"/>
            <a:ext cx="534240" cy="889920"/>
          </a:xfrm>
          <a:prstGeom prst="bentConnector3">
            <a:avLst>
              <a:gd name="adj1" fmla="val 49966"/>
            </a:avLst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2C69-746A-4E9D-8ECF-D2AA718D7C4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Components of Issu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533520" y="2514600"/>
            <a:ext cx="2590560" cy="7621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533520" y="3848040"/>
            <a:ext cx="2590560" cy="7621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6"/>
          <p:cNvSpPr/>
          <p:nvPr/>
        </p:nvSpPr>
        <p:spPr>
          <a:xfrm>
            <a:off x="533520" y="5181480"/>
            <a:ext cx="2590560" cy="7621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Key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276720" y="278136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3276720" y="411480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76720" y="544824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8006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 Narrow"/>
              </a:rPr>
              <a:t>Questions which need to be answered or topics which need to be explored in order to solve a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4800600" y="37339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 Narrow"/>
              </a:rPr>
              <a:t>Speculative answers for issues that are phrased as questions and/or areas of exploration for issue phrased as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4800600" y="5103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 Narrow"/>
              </a:rPr>
              <a:t>Questions that probe hypotheses and drive the primary research required to solve th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9C60-55AB-45DC-93DF-A306F56B3E8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th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80880" y="4697280"/>
            <a:ext cx="14479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3886200" y="3567240"/>
            <a:ext cx="144792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sue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3886200" y="4697280"/>
            <a:ext cx="144792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sue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6200" y="5880240"/>
            <a:ext cx="144792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sue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AutoShape 8"/>
          <p:cNvCxnSpPr>
            <a:stCxn id="307" idx="3"/>
            <a:endCxn id="308" idx="1"/>
          </p:cNvCxnSpPr>
          <p:nvPr/>
        </p:nvCxnSpPr>
        <p:spPr>
          <a:xfrm flipV="1">
            <a:off x="1828440" y="3757320"/>
            <a:ext cx="2057760" cy="113112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2" name="AutoShape 9"/>
          <p:cNvCxnSpPr>
            <a:stCxn id="307" idx="3"/>
            <a:endCxn id="309" idx="1"/>
          </p:cNvCxnSpPr>
          <p:nvPr/>
        </p:nvCxnSpPr>
        <p:spPr>
          <a:xfrm>
            <a:off x="1828440" y="4887720"/>
            <a:ext cx="20577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3" name="AutoShape 10"/>
          <p:cNvCxnSpPr>
            <a:stCxn id="307" idx="3"/>
            <a:endCxn id="310" idx="1"/>
          </p:cNvCxnSpPr>
          <p:nvPr/>
        </p:nvCxnSpPr>
        <p:spPr>
          <a:xfrm>
            <a:off x="1828440" y="4887720"/>
            <a:ext cx="2057760" cy="118332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27"/>
          <p:cNvSpPr/>
          <p:nvPr/>
        </p:nvSpPr>
        <p:spPr>
          <a:xfrm>
            <a:off x="152280" y="2965320"/>
            <a:ext cx="198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 Narrow"/>
              </a:rPr>
              <a:t>Client wants to decide whether they should divest their widget X manufacturing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8"/>
          <p:cNvSpPr/>
          <p:nvPr/>
        </p:nvSpPr>
        <p:spPr>
          <a:xfrm>
            <a:off x="838080" y="4280040"/>
            <a:ext cx="5335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5981760" y="3406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Is there a market for divesting this busin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30"/>
          <p:cNvSpPr/>
          <p:nvPr/>
        </p:nvSpPr>
        <p:spPr>
          <a:xfrm>
            <a:off x="5562720" y="352908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1"/>
          <p:cNvSpPr/>
          <p:nvPr/>
        </p:nvSpPr>
        <p:spPr>
          <a:xfrm>
            <a:off x="5981760" y="459756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Is this a cost effective solution for the clie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32"/>
          <p:cNvSpPr/>
          <p:nvPr/>
        </p:nvSpPr>
        <p:spPr>
          <a:xfrm>
            <a:off x="5562720" y="465948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5981760" y="565164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What impacts will there be for the displaced employe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34"/>
          <p:cNvSpPr/>
          <p:nvPr/>
        </p:nvSpPr>
        <p:spPr>
          <a:xfrm>
            <a:off x="5562720" y="580536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37"/>
          <p:cNvSpPr/>
          <p:nvPr/>
        </p:nvSpPr>
        <p:spPr>
          <a:xfrm>
            <a:off x="5410080" y="1828800"/>
            <a:ext cx="3581640" cy="1143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What key topics should we explore to help the client solve this probl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7201080" y="3048120"/>
            <a:ext cx="0" cy="393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C36E-EB28-431D-93B4-687DC626484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to Identify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mprehensive list of all possible issues related to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comprehensive list by eliminating duplicates and combining overlapp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consensus building, get down to a “major issues list” (usually two to five iss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12E5-9993-44C2-B763-F41BECDA946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ing th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52280" y="4114800"/>
            <a:ext cx="14479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2057400" y="2476440"/>
            <a:ext cx="144792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sue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2057400" y="4114800"/>
            <a:ext cx="144792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sue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2057400" y="5781600"/>
            <a:ext cx="144792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sue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AutoShape 7"/>
          <p:cNvCxnSpPr>
            <a:stCxn id="329" idx="3"/>
            <a:endCxn id="330" idx="1"/>
          </p:cNvCxnSpPr>
          <p:nvPr/>
        </p:nvCxnSpPr>
        <p:spPr>
          <a:xfrm flipV="1">
            <a:off x="1600200" y="2666160"/>
            <a:ext cx="457920" cy="1639080"/>
          </a:xfrm>
          <a:prstGeom prst="bentConnector3">
            <a:avLst>
              <a:gd name="adj1" fmla="val 499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34" name="AutoShape 8"/>
          <p:cNvCxnSpPr>
            <a:stCxn id="329" idx="3"/>
            <a:endCxn id="331" idx="1"/>
          </p:cNvCxnSpPr>
          <p:nvPr/>
        </p:nvCxnSpPr>
        <p:spPr>
          <a:xfrm>
            <a:off x="1600200" y="430488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35" name="AutoShape 9"/>
          <p:cNvCxnSpPr>
            <a:stCxn id="329" idx="3"/>
            <a:endCxn id="332" idx="1"/>
          </p:cNvCxnSpPr>
          <p:nvPr/>
        </p:nvCxnSpPr>
        <p:spPr>
          <a:xfrm>
            <a:off x="1600200" y="4305240"/>
            <a:ext cx="457920" cy="1667520"/>
          </a:xfrm>
          <a:prstGeom prst="bentConnector3">
            <a:avLst>
              <a:gd name="adj1" fmla="val 4996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Rectangle 10"/>
          <p:cNvSpPr/>
          <p:nvPr/>
        </p:nvSpPr>
        <p:spPr>
          <a:xfrm>
            <a:off x="4038480" y="190512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ypothesis #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4038480" y="247644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ypothesis #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12"/>
          <p:cNvCxnSpPr>
            <a:stCxn id="330" idx="3"/>
            <a:endCxn id="336" idx="1"/>
          </p:cNvCxnSpPr>
          <p:nvPr/>
        </p:nvCxnSpPr>
        <p:spPr>
          <a:xfrm flipV="1">
            <a:off x="3504960" y="2094840"/>
            <a:ext cx="533880" cy="57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39" name="AutoShape 13"/>
          <p:cNvCxnSpPr>
            <a:stCxn id="330" idx="3"/>
            <a:endCxn id="337" idx="1"/>
          </p:cNvCxnSpPr>
          <p:nvPr/>
        </p:nvCxnSpPr>
        <p:spPr>
          <a:xfrm>
            <a:off x="3504960" y="2666520"/>
            <a:ext cx="533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Rectangle 14"/>
          <p:cNvSpPr/>
          <p:nvPr/>
        </p:nvSpPr>
        <p:spPr>
          <a:xfrm>
            <a:off x="4038480" y="356220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ypothesis #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4038480" y="411480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ypothesis #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16"/>
          <p:cNvCxnSpPr>
            <a:stCxn id="331" idx="3"/>
            <a:endCxn id="340" idx="1"/>
          </p:cNvCxnSpPr>
          <p:nvPr/>
        </p:nvCxnSpPr>
        <p:spPr>
          <a:xfrm flipV="1">
            <a:off x="3504960" y="3752640"/>
            <a:ext cx="533880" cy="552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43" name="AutoShape 17"/>
          <p:cNvCxnSpPr>
            <a:stCxn id="331" idx="3"/>
            <a:endCxn id="341" idx="1"/>
          </p:cNvCxnSpPr>
          <p:nvPr/>
        </p:nvCxnSpPr>
        <p:spPr>
          <a:xfrm>
            <a:off x="3504960" y="4304880"/>
            <a:ext cx="533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Rectangle 18"/>
          <p:cNvSpPr/>
          <p:nvPr/>
        </p:nvSpPr>
        <p:spPr>
          <a:xfrm>
            <a:off x="4038480" y="521964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ypothesis #3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4038480" y="578160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ypothesis #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AutoShape 20"/>
          <p:cNvCxnSpPr>
            <a:stCxn id="332" idx="3"/>
            <a:endCxn id="344" idx="1"/>
          </p:cNvCxnSpPr>
          <p:nvPr/>
        </p:nvCxnSpPr>
        <p:spPr>
          <a:xfrm flipV="1">
            <a:off x="3504960" y="5409360"/>
            <a:ext cx="533880" cy="562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47" name="AutoShape 21"/>
          <p:cNvCxnSpPr>
            <a:stCxn id="332" idx="3"/>
            <a:endCxn id="345" idx="1"/>
          </p:cNvCxnSpPr>
          <p:nvPr/>
        </p:nvCxnSpPr>
        <p:spPr>
          <a:xfrm>
            <a:off x="3504960" y="5971680"/>
            <a:ext cx="533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Text Box 22"/>
          <p:cNvSpPr/>
          <p:nvPr/>
        </p:nvSpPr>
        <p:spPr>
          <a:xfrm>
            <a:off x="2057400" y="21337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 Narrow"/>
              </a:rPr>
              <a:t>Market Interes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2057400" y="345456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 Narrow"/>
              </a:rPr>
              <a:t>Cost Effectiven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2057400" y="51595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 Narrow"/>
              </a:rPr>
              <a:t>Impacts on Employe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5"/>
          <p:cNvSpPr/>
          <p:nvPr/>
        </p:nvSpPr>
        <p:spPr>
          <a:xfrm>
            <a:off x="4038480" y="300996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AutoShape 26"/>
          <p:cNvCxnSpPr>
            <a:stCxn id="330" idx="3"/>
            <a:endCxn id="351" idx="1"/>
          </p:cNvCxnSpPr>
          <p:nvPr/>
        </p:nvCxnSpPr>
        <p:spPr>
          <a:xfrm>
            <a:off x="3504960" y="2666880"/>
            <a:ext cx="533880" cy="5342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3" name="Rectangle 27"/>
          <p:cNvSpPr/>
          <p:nvPr/>
        </p:nvSpPr>
        <p:spPr>
          <a:xfrm>
            <a:off x="4038480" y="466740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AutoShape 28"/>
          <p:cNvCxnSpPr>
            <a:stCxn id="331" idx="3"/>
            <a:endCxn id="353" idx="1"/>
          </p:cNvCxnSpPr>
          <p:nvPr/>
        </p:nvCxnSpPr>
        <p:spPr>
          <a:xfrm>
            <a:off x="3504960" y="4304880"/>
            <a:ext cx="533880" cy="5533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5" name="Rectangle 29"/>
          <p:cNvSpPr/>
          <p:nvPr/>
        </p:nvSpPr>
        <p:spPr>
          <a:xfrm>
            <a:off x="4038480" y="63244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30"/>
          <p:cNvCxnSpPr>
            <a:stCxn id="332" idx="3"/>
            <a:endCxn id="355" idx="1"/>
          </p:cNvCxnSpPr>
          <p:nvPr/>
        </p:nvCxnSpPr>
        <p:spPr>
          <a:xfrm>
            <a:off x="3504960" y="5971680"/>
            <a:ext cx="533880" cy="54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Text Box 31"/>
          <p:cNvSpPr/>
          <p:nvPr/>
        </p:nvSpPr>
        <p:spPr>
          <a:xfrm>
            <a:off x="152280" y="3505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 Narrow"/>
              </a:rPr>
              <a:t>Divest Widget X Busin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2"/>
          <p:cNvSpPr/>
          <p:nvPr/>
        </p:nvSpPr>
        <p:spPr>
          <a:xfrm>
            <a:off x="6095880" y="19494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The market is l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33"/>
          <p:cNvSpPr/>
          <p:nvPr/>
        </p:nvSpPr>
        <p:spPr>
          <a:xfrm>
            <a:off x="5715000" y="190512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34"/>
          <p:cNvSpPr/>
          <p:nvPr/>
        </p:nvSpPr>
        <p:spPr>
          <a:xfrm>
            <a:off x="5715000" y="3581280"/>
            <a:ext cx="3124080" cy="1143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What are some possible answers to the issu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35"/>
          <p:cNvSpPr/>
          <p:nvPr/>
        </p:nvSpPr>
        <p:spPr>
          <a:xfrm>
            <a:off x="7277040" y="4863960"/>
            <a:ext cx="0" cy="393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36"/>
          <p:cNvSpPr/>
          <p:nvPr/>
        </p:nvSpPr>
        <p:spPr>
          <a:xfrm flipV="1">
            <a:off x="7277040" y="3047760"/>
            <a:ext cx="0" cy="393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7"/>
          <p:cNvSpPr/>
          <p:nvPr/>
        </p:nvSpPr>
        <p:spPr>
          <a:xfrm>
            <a:off x="6095880" y="530208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Large percentage of employees will likely retire in two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38"/>
          <p:cNvSpPr/>
          <p:nvPr/>
        </p:nvSpPr>
        <p:spPr>
          <a:xfrm>
            <a:off x="5715000" y="52578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258A-5D79-45F9-A77E-F01B9B0F9AD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ming the K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228600" y="4149720"/>
            <a:ext cx="14479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981080" y="2743200"/>
            <a:ext cx="144792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sue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981080" y="4149720"/>
            <a:ext cx="144792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sue 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981080" y="5896080"/>
            <a:ext cx="144792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sue #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AutoShape 7"/>
          <p:cNvCxnSpPr>
            <a:stCxn id="367" idx="3"/>
            <a:endCxn id="368" idx="1"/>
          </p:cNvCxnSpPr>
          <p:nvPr/>
        </p:nvCxnSpPr>
        <p:spPr>
          <a:xfrm flipV="1">
            <a:off x="1676520" y="2932920"/>
            <a:ext cx="305280" cy="1407240"/>
          </a:xfrm>
          <a:prstGeom prst="bentConnector3">
            <a:avLst>
              <a:gd name="adj1" fmla="val 4994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AutoShape 8"/>
          <p:cNvCxnSpPr>
            <a:stCxn id="367" idx="3"/>
            <a:endCxn id="369" idx="1"/>
          </p:cNvCxnSpPr>
          <p:nvPr/>
        </p:nvCxnSpPr>
        <p:spPr>
          <a:xfrm>
            <a:off x="1676520" y="433980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3" name="AutoShape 9"/>
          <p:cNvCxnSpPr>
            <a:stCxn id="367" idx="3"/>
            <a:endCxn id="370" idx="1"/>
          </p:cNvCxnSpPr>
          <p:nvPr/>
        </p:nvCxnSpPr>
        <p:spPr>
          <a:xfrm>
            <a:off x="1676520" y="4339800"/>
            <a:ext cx="305280" cy="1747080"/>
          </a:xfrm>
          <a:prstGeom prst="bentConnector3">
            <a:avLst>
              <a:gd name="adj1" fmla="val 4994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4" name="Rectangle 10"/>
          <p:cNvSpPr/>
          <p:nvPr/>
        </p:nvSpPr>
        <p:spPr>
          <a:xfrm>
            <a:off x="3772080" y="2476440"/>
            <a:ext cx="14475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pothesis #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3772080" y="3048120"/>
            <a:ext cx="14475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pothesis #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AutoShape 14"/>
          <p:cNvCxnSpPr>
            <a:stCxn id="368" idx="3"/>
            <a:endCxn id="374" idx="1"/>
          </p:cNvCxnSpPr>
          <p:nvPr/>
        </p:nvCxnSpPr>
        <p:spPr>
          <a:xfrm flipV="1">
            <a:off x="3428640" y="2666520"/>
            <a:ext cx="343800" cy="2671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7" name="AutoShape 15"/>
          <p:cNvCxnSpPr>
            <a:stCxn id="368" idx="3"/>
            <a:endCxn id="375" idx="1"/>
          </p:cNvCxnSpPr>
          <p:nvPr/>
        </p:nvCxnSpPr>
        <p:spPr>
          <a:xfrm>
            <a:off x="3428640" y="2933280"/>
            <a:ext cx="343800" cy="305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8" name="Rectangle 26"/>
          <p:cNvSpPr/>
          <p:nvPr/>
        </p:nvSpPr>
        <p:spPr>
          <a:xfrm>
            <a:off x="3772080" y="3902040"/>
            <a:ext cx="14475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pothesis #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7"/>
          <p:cNvSpPr/>
          <p:nvPr/>
        </p:nvSpPr>
        <p:spPr>
          <a:xfrm>
            <a:off x="3772080" y="4454640"/>
            <a:ext cx="14475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pothesis #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69" idx="3"/>
            <a:endCxn id="378" idx="1"/>
          </p:cNvCxnSpPr>
          <p:nvPr/>
        </p:nvCxnSpPr>
        <p:spPr>
          <a:xfrm flipV="1">
            <a:off x="3428640" y="4092120"/>
            <a:ext cx="343800" cy="248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1" name="AutoShape 29"/>
          <p:cNvCxnSpPr>
            <a:stCxn id="369" idx="3"/>
            <a:endCxn id="379" idx="1"/>
          </p:cNvCxnSpPr>
          <p:nvPr/>
        </p:nvCxnSpPr>
        <p:spPr>
          <a:xfrm>
            <a:off x="3428640" y="4339800"/>
            <a:ext cx="343800" cy="305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Rectangle 30"/>
          <p:cNvSpPr/>
          <p:nvPr/>
        </p:nvSpPr>
        <p:spPr>
          <a:xfrm>
            <a:off x="3772080" y="5610240"/>
            <a:ext cx="14475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pothesis #3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31"/>
          <p:cNvSpPr/>
          <p:nvPr/>
        </p:nvSpPr>
        <p:spPr>
          <a:xfrm>
            <a:off x="3772080" y="6172200"/>
            <a:ext cx="14475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pothesis #3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32"/>
          <p:cNvCxnSpPr>
            <a:stCxn id="370" idx="3"/>
            <a:endCxn id="382" idx="1"/>
          </p:cNvCxnSpPr>
          <p:nvPr/>
        </p:nvCxnSpPr>
        <p:spPr>
          <a:xfrm flipV="1">
            <a:off x="3428640" y="5800320"/>
            <a:ext cx="343800" cy="2865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5" name="AutoShape 33"/>
          <p:cNvCxnSpPr>
            <a:stCxn id="370" idx="3"/>
            <a:endCxn id="383" idx="1"/>
          </p:cNvCxnSpPr>
          <p:nvPr/>
        </p:nvCxnSpPr>
        <p:spPr>
          <a:xfrm>
            <a:off x="3428640" y="6086160"/>
            <a:ext cx="343800" cy="27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6" name="Text Box 34"/>
          <p:cNvSpPr/>
          <p:nvPr/>
        </p:nvSpPr>
        <p:spPr>
          <a:xfrm>
            <a:off x="1981080" y="24004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50021"/>
                </a:solidFill>
                <a:latin typeface="Arial Narrow"/>
              </a:rPr>
              <a:t>Market Inter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5"/>
          <p:cNvSpPr/>
          <p:nvPr/>
        </p:nvSpPr>
        <p:spPr>
          <a:xfrm>
            <a:off x="1981080" y="3763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50021"/>
                </a:solidFill>
                <a:latin typeface="Arial Narrow"/>
              </a:rPr>
              <a:t>Cost Effective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6"/>
          <p:cNvSpPr/>
          <p:nvPr/>
        </p:nvSpPr>
        <p:spPr>
          <a:xfrm>
            <a:off x="1981080" y="53722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50021"/>
                </a:solidFill>
                <a:latin typeface="Arial Narrow"/>
              </a:rPr>
              <a:t>Impacts on Employe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228600" y="363204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50021"/>
                </a:solidFill>
                <a:latin typeface="Arial Narrow"/>
              </a:rPr>
              <a:t>Divest Widget X Busi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4"/>
          <p:cNvSpPr/>
          <p:nvPr/>
        </p:nvSpPr>
        <p:spPr>
          <a:xfrm>
            <a:off x="3467160" y="2133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50021"/>
                </a:solidFill>
                <a:latin typeface="Arial Narrow"/>
              </a:rPr>
              <a:t>The market is  l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46"/>
          <p:cNvSpPr/>
          <p:nvPr/>
        </p:nvSpPr>
        <p:spPr>
          <a:xfrm>
            <a:off x="5943600" y="4114800"/>
            <a:ext cx="3124080" cy="7621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 Narrow"/>
              </a:rPr>
              <a:t>What questions need to be answered to prove/disprove the hypothesi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7"/>
          <p:cNvSpPr/>
          <p:nvPr/>
        </p:nvSpPr>
        <p:spPr>
          <a:xfrm>
            <a:off x="8229600" y="4940280"/>
            <a:ext cx="0" cy="317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48"/>
          <p:cNvSpPr/>
          <p:nvPr/>
        </p:nvSpPr>
        <p:spPr>
          <a:xfrm flipV="1">
            <a:off x="8229600" y="37339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9"/>
          <p:cNvSpPr/>
          <p:nvPr/>
        </p:nvSpPr>
        <p:spPr>
          <a:xfrm>
            <a:off x="3505320" y="495288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50021"/>
                </a:solidFill>
                <a:latin typeface="Arial Narrow"/>
              </a:rPr>
              <a:t>Large percentage of employees will likely retire in two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52"/>
          <p:cNvSpPr/>
          <p:nvPr/>
        </p:nvSpPr>
        <p:spPr>
          <a:xfrm>
            <a:off x="5562720" y="1905120"/>
            <a:ext cx="15238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1A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53"/>
          <p:cNvSpPr/>
          <p:nvPr/>
        </p:nvSpPr>
        <p:spPr>
          <a:xfrm>
            <a:off x="5562720" y="2476440"/>
            <a:ext cx="1523880" cy="381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1A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AutoShape 54"/>
          <p:cNvCxnSpPr>
            <a:stCxn id="374" idx="3"/>
            <a:endCxn id="395" idx="1"/>
          </p:cNvCxnSpPr>
          <p:nvPr/>
        </p:nvCxnSpPr>
        <p:spPr>
          <a:xfrm flipV="1">
            <a:off x="5219280" y="2094840"/>
            <a:ext cx="343800" cy="57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8" name="AutoShape 55"/>
          <p:cNvCxnSpPr>
            <a:stCxn id="374" idx="3"/>
            <a:endCxn id="396" idx="1"/>
          </p:cNvCxnSpPr>
          <p:nvPr/>
        </p:nvCxnSpPr>
        <p:spPr>
          <a:xfrm>
            <a:off x="5219280" y="2666520"/>
            <a:ext cx="343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Rectangle 56"/>
          <p:cNvSpPr/>
          <p:nvPr/>
        </p:nvSpPr>
        <p:spPr>
          <a:xfrm>
            <a:off x="5562720" y="3048120"/>
            <a:ext cx="15238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1A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AutoShape 57"/>
          <p:cNvCxnSpPr>
            <a:stCxn id="374" idx="3"/>
            <a:endCxn id="399" idx="1"/>
          </p:cNvCxnSpPr>
          <p:nvPr/>
        </p:nvCxnSpPr>
        <p:spPr>
          <a:xfrm>
            <a:off x="5219280" y="2666880"/>
            <a:ext cx="343800" cy="5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Text Box 58"/>
          <p:cNvSpPr/>
          <p:nvPr/>
        </p:nvSpPr>
        <p:spPr>
          <a:xfrm>
            <a:off x="7543800" y="17524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How many players are there in the marke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9"/>
          <p:cNvSpPr/>
          <p:nvPr/>
        </p:nvSpPr>
        <p:spPr>
          <a:xfrm>
            <a:off x="7238880" y="190512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60"/>
          <p:cNvSpPr/>
          <p:nvPr/>
        </p:nvSpPr>
        <p:spPr>
          <a:xfrm>
            <a:off x="7543800" y="279072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How many are large enough to take on the client's busines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61"/>
          <p:cNvSpPr/>
          <p:nvPr/>
        </p:nvSpPr>
        <p:spPr>
          <a:xfrm>
            <a:off x="7238880" y="304812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62"/>
          <p:cNvSpPr/>
          <p:nvPr/>
        </p:nvSpPr>
        <p:spPr>
          <a:xfrm>
            <a:off x="5562720" y="5045040"/>
            <a:ext cx="15238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3A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3"/>
          <p:cNvSpPr/>
          <p:nvPr/>
        </p:nvSpPr>
        <p:spPr>
          <a:xfrm>
            <a:off x="5562720" y="5616720"/>
            <a:ext cx="15238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3A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AutoShape 64"/>
          <p:cNvCxnSpPr>
            <a:endCxn id="405" idx="1"/>
          </p:cNvCxnSpPr>
          <p:nvPr/>
        </p:nvCxnSpPr>
        <p:spPr>
          <a:xfrm flipV="1">
            <a:off x="5219280" y="5235120"/>
            <a:ext cx="343800" cy="5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8" name="AutoShape 65"/>
          <p:cNvCxnSpPr>
            <a:endCxn id="406" idx="1"/>
          </p:cNvCxnSpPr>
          <p:nvPr/>
        </p:nvCxnSpPr>
        <p:spPr>
          <a:xfrm>
            <a:off x="5219280" y="5806800"/>
            <a:ext cx="343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9" name="Rectangle 66"/>
          <p:cNvSpPr/>
          <p:nvPr/>
        </p:nvSpPr>
        <p:spPr>
          <a:xfrm>
            <a:off x="5562720" y="6188040"/>
            <a:ext cx="15238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3A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AutoShape 67"/>
          <p:cNvCxnSpPr>
            <a:endCxn id="409" idx="1"/>
          </p:cNvCxnSpPr>
          <p:nvPr/>
        </p:nvCxnSpPr>
        <p:spPr>
          <a:xfrm>
            <a:off x="5219280" y="5806800"/>
            <a:ext cx="343800" cy="57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Text Box 68"/>
          <p:cNvSpPr/>
          <p:nvPr/>
        </p:nvSpPr>
        <p:spPr>
          <a:xfrm>
            <a:off x="7543800" y="544212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How many employees are 50 years old or older and interested in retir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69"/>
          <p:cNvSpPr/>
          <p:nvPr/>
        </p:nvSpPr>
        <p:spPr>
          <a:xfrm>
            <a:off x="7238880" y="557856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30B4-08B7-417C-9FF1-1F92C6EFD3D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Pitfalls in Creating Issu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371600" y="2057400"/>
            <a:ext cx="6553080" cy="4419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3657600" y="20574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1371600" y="364176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1371600" y="502920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447920" y="25909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1447920" y="41893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Hypoth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1447920" y="557676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Key Ques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3733920" y="2104920"/>
            <a:ext cx="41148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a50021"/>
                </a:solidFill>
                <a:latin typeface="Arial Narrow"/>
              </a:rPr>
              <a:t>Issues which ar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Too broad, which expand beyond the objectiv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Too narr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Too many to be easily remember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Of uneven we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Not sequenced effective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3733920" y="3718080"/>
            <a:ext cx="4114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a50021"/>
                </a:solidFill>
                <a:latin typeface="Arial Narrow"/>
              </a:rPr>
              <a:t>Hypotheses which ar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Too few to cover the iss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Too many to be easily remember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Not supportable by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Not directly relevant to the iss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3733920" y="5181480"/>
            <a:ext cx="4114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a50021"/>
                </a:solidFill>
                <a:latin typeface="Arial Narrow"/>
              </a:rPr>
              <a:t>Key questions which ar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Too few to test the hypothe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Too many to be easily remember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Irrelevant to the hypothe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ce"/>
                </a:solidFill>
                <a:latin typeface="Arial Narrow"/>
              </a:rPr>
              <a:t>Not answerable with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4C47-6856-49F2-87BE-A40DE1CC273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diagrams provide a framework for brainstorming and documenting the issues driving the problem and identifying the facts (i.e. data) required to support conclusions and recommende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 and the key questions will help shape data collection requirements and ensure that only relevant data is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ion of hypotheses and key questions is an evolving process – they will need to be revised as new insights and discoveries ar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DE6A-5628-4E39-A47F-813162999A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 – A Method for Identifying Issues and Formula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ing is useful when there is a wide range of possible issues an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ing is not appropriate for testing an idea; it is use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umerous brainstorming techniques, which include group brainstorming, individual brainstorming, and storybo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rainstorming is usually not recommended unless time is too tight, participants are rarely available, group is too larg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ing can be useful for Force Field Analysis – identifying all forces impacting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76C4-9CDD-4385-8BF5-241DBC809E0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s for Brainsto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purpose and objective of the brainstorming session from the on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ground rules for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everyone an opportunity to partici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 all ideas and opinions – nothing is rejected until consensus building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xhausting all ideas, eliminate certain ideas, e.g. not relevant, duplicativ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outcome of the brainstorming process through consensus: Highest Priority, Assigning Poin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25DA-5B34-48CD-ADC6-DA516763C47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fundamental understanding of how analytical thinking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specific tools and techniques that consultants can use during the problem solving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consultants a complete framework for managing project issues – from identification to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 AND TECHNIQU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COLLECTING THE FACT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0" y="-3625560"/>
            <a:ext cx="144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53B3-D7BE-4FFA-9984-0F2CFF3ACDA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to the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answer the key questions and validate the hypotheses (presented in the earlier steps), collection of factual information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ritical steps are to identify what information, i.e. data elements, is required and develop a data collection approach/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type of problem being solved, different data-collection techniques may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ing a number of different techniques allows looking at problems from different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is a critical stage in problem solving - if it is superficial, biased or incomplete, data analysis will b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8A6F-831D-4F6A-87C4-1CCCE20C78B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Issue Diagram to identify data and informa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76320" y="4321080"/>
            <a:ext cx="574560" cy="150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71480" y="3763800"/>
            <a:ext cx="574560" cy="150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Issue #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771480" y="4321080"/>
            <a:ext cx="574560" cy="150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Issue #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771480" y="5014800"/>
            <a:ext cx="574560" cy="150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Issue #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AutoShape 7"/>
          <p:cNvCxnSpPr>
            <a:stCxn id="441" idx="3"/>
            <a:endCxn id="442" idx="1"/>
          </p:cNvCxnSpPr>
          <p:nvPr/>
        </p:nvCxnSpPr>
        <p:spPr>
          <a:xfrm flipV="1">
            <a:off x="650520" y="3838680"/>
            <a:ext cx="121320" cy="5590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46" name="AutoShape 8"/>
          <p:cNvCxnSpPr>
            <a:stCxn id="441" idx="3"/>
            <a:endCxn id="443" idx="1"/>
          </p:cNvCxnSpPr>
          <p:nvPr/>
        </p:nvCxnSpPr>
        <p:spPr>
          <a:xfrm>
            <a:off x="650520" y="4397040"/>
            <a:ext cx="12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47" name="AutoShape 9"/>
          <p:cNvCxnSpPr>
            <a:stCxn id="441" idx="3"/>
            <a:endCxn id="444" idx="1"/>
          </p:cNvCxnSpPr>
          <p:nvPr/>
        </p:nvCxnSpPr>
        <p:spPr>
          <a:xfrm>
            <a:off x="650520" y="4397040"/>
            <a:ext cx="121320" cy="6930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48" name="Rectangle 10"/>
          <p:cNvSpPr/>
          <p:nvPr/>
        </p:nvSpPr>
        <p:spPr>
          <a:xfrm>
            <a:off x="1482840" y="3657600"/>
            <a:ext cx="574560" cy="150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1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1482840" y="3884760"/>
            <a:ext cx="574560" cy="150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1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AutoShape 12"/>
          <p:cNvCxnSpPr>
            <a:stCxn id="442" idx="3"/>
            <a:endCxn id="448" idx="1"/>
          </p:cNvCxnSpPr>
          <p:nvPr/>
        </p:nvCxnSpPr>
        <p:spPr>
          <a:xfrm flipV="1">
            <a:off x="1346040" y="3733200"/>
            <a:ext cx="137520" cy="105480"/>
          </a:xfrm>
          <a:prstGeom prst="bentConnector3">
            <a:avLst>
              <a:gd name="adj1" fmla="val 49868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51" name="AutoShape 13"/>
          <p:cNvCxnSpPr>
            <a:stCxn id="442" idx="3"/>
            <a:endCxn id="449" idx="1"/>
          </p:cNvCxnSpPr>
          <p:nvPr/>
        </p:nvCxnSpPr>
        <p:spPr>
          <a:xfrm>
            <a:off x="1346040" y="3838320"/>
            <a:ext cx="137520" cy="121320"/>
          </a:xfrm>
          <a:prstGeom prst="bentConnector3">
            <a:avLst>
              <a:gd name="adj1" fmla="val 4986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52" name="Rectangle 14"/>
          <p:cNvSpPr/>
          <p:nvPr/>
        </p:nvSpPr>
        <p:spPr>
          <a:xfrm>
            <a:off x="1482840" y="4222800"/>
            <a:ext cx="57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2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1482840" y="4441680"/>
            <a:ext cx="57456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2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AutoShape 16"/>
          <p:cNvCxnSpPr>
            <a:stCxn id="443" idx="3"/>
            <a:endCxn id="452" idx="1"/>
          </p:cNvCxnSpPr>
          <p:nvPr/>
        </p:nvCxnSpPr>
        <p:spPr>
          <a:xfrm flipV="1">
            <a:off x="1346040" y="4298400"/>
            <a:ext cx="137520" cy="99000"/>
          </a:xfrm>
          <a:prstGeom prst="bentConnector3">
            <a:avLst>
              <a:gd name="adj1" fmla="val 49868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55" name="AutoShape 17"/>
          <p:cNvCxnSpPr>
            <a:stCxn id="443" idx="3"/>
            <a:endCxn id="453" idx="1"/>
          </p:cNvCxnSpPr>
          <p:nvPr/>
        </p:nvCxnSpPr>
        <p:spPr>
          <a:xfrm>
            <a:off x="1346040" y="4397040"/>
            <a:ext cx="137520" cy="121320"/>
          </a:xfrm>
          <a:prstGeom prst="bentConnector3">
            <a:avLst>
              <a:gd name="adj1" fmla="val 4986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56" name="Rectangle 18"/>
          <p:cNvSpPr/>
          <p:nvPr/>
        </p:nvSpPr>
        <p:spPr>
          <a:xfrm>
            <a:off x="1482840" y="4900680"/>
            <a:ext cx="57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3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1482840" y="5124600"/>
            <a:ext cx="574560" cy="150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3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20"/>
          <p:cNvCxnSpPr>
            <a:stCxn id="444" idx="3"/>
            <a:endCxn id="456" idx="1"/>
          </p:cNvCxnSpPr>
          <p:nvPr/>
        </p:nvCxnSpPr>
        <p:spPr>
          <a:xfrm flipV="1">
            <a:off x="1346040" y="4976280"/>
            <a:ext cx="137520" cy="113760"/>
          </a:xfrm>
          <a:prstGeom prst="bentConnector3">
            <a:avLst>
              <a:gd name="adj1" fmla="val 49868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59" name="AutoShape 21"/>
          <p:cNvCxnSpPr>
            <a:stCxn id="444" idx="3"/>
            <a:endCxn id="457" idx="1"/>
          </p:cNvCxnSpPr>
          <p:nvPr/>
        </p:nvCxnSpPr>
        <p:spPr>
          <a:xfrm>
            <a:off x="1346040" y="5089680"/>
            <a:ext cx="137520" cy="110160"/>
          </a:xfrm>
          <a:prstGeom prst="bentConnector3">
            <a:avLst>
              <a:gd name="adj1" fmla="val 4986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60" name="Oval 27"/>
          <p:cNvSpPr/>
          <p:nvPr/>
        </p:nvSpPr>
        <p:spPr>
          <a:xfrm>
            <a:off x="4267080" y="3962520"/>
            <a:ext cx="2895840" cy="7617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 Narrow"/>
              </a:rPr>
              <a:t>What information or data needs to be collected to answer these question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28"/>
          <p:cNvSpPr/>
          <p:nvPr/>
        </p:nvSpPr>
        <p:spPr>
          <a:xfrm>
            <a:off x="6477120" y="48006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9"/>
          <p:cNvSpPr/>
          <p:nvPr/>
        </p:nvSpPr>
        <p:spPr>
          <a:xfrm flipV="1">
            <a:off x="6476400" y="3733560"/>
            <a:ext cx="2286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2514600" y="2971800"/>
            <a:ext cx="15238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1A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2"/>
          <p:cNvSpPr/>
          <p:nvPr/>
        </p:nvSpPr>
        <p:spPr>
          <a:xfrm>
            <a:off x="2514600" y="3535200"/>
            <a:ext cx="1523880" cy="381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1A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33"/>
          <p:cNvCxnSpPr>
            <a:stCxn id="448" idx="3"/>
            <a:endCxn id="463" idx="1"/>
          </p:cNvCxnSpPr>
          <p:nvPr/>
        </p:nvCxnSpPr>
        <p:spPr>
          <a:xfrm flipV="1">
            <a:off x="2057400" y="3161880"/>
            <a:ext cx="457920" cy="572400"/>
          </a:xfrm>
          <a:prstGeom prst="bentConnector3">
            <a:avLst>
              <a:gd name="adj1" fmla="val 499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6" name="AutoShape 34"/>
          <p:cNvCxnSpPr>
            <a:stCxn id="448" idx="3"/>
            <a:endCxn id="464" idx="1"/>
          </p:cNvCxnSpPr>
          <p:nvPr/>
        </p:nvCxnSpPr>
        <p:spPr>
          <a:xfrm flipV="1">
            <a:off x="2057400" y="3725640"/>
            <a:ext cx="457920" cy="8640"/>
          </a:xfrm>
          <a:prstGeom prst="bentConnector3">
            <a:avLst>
              <a:gd name="adj1" fmla="val 4996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7" name="Rectangle 35"/>
          <p:cNvSpPr/>
          <p:nvPr/>
        </p:nvSpPr>
        <p:spPr>
          <a:xfrm>
            <a:off x="2514600" y="4098960"/>
            <a:ext cx="15238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1A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36"/>
          <p:cNvCxnSpPr>
            <a:stCxn id="448" idx="3"/>
            <a:endCxn id="467" idx="1"/>
          </p:cNvCxnSpPr>
          <p:nvPr/>
        </p:nvCxnSpPr>
        <p:spPr>
          <a:xfrm>
            <a:off x="2057400" y="3733560"/>
            <a:ext cx="457920" cy="556200"/>
          </a:xfrm>
          <a:prstGeom prst="bentConnector3">
            <a:avLst>
              <a:gd name="adj1" fmla="val 4996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AutoShape 38"/>
          <p:cNvSpPr/>
          <p:nvPr/>
        </p:nvSpPr>
        <p:spPr>
          <a:xfrm>
            <a:off x="4191120" y="297180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9"/>
          <p:cNvSpPr/>
          <p:nvPr/>
        </p:nvSpPr>
        <p:spPr>
          <a:xfrm>
            <a:off x="4495680" y="2743200"/>
            <a:ext cx="152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How many are large enough to take on the client's busines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1"/>
          <p:cNvSpPr/>
          <p:nvPr/>
        </p:nvSpPr>
        <p:spPr>
          <a:xfrm>
            <a:off x="2514600" y="4662360"/>
            <a:ext cx="1523880" cy="381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3A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42"/>
          <p:cNvSpPr/>
          <p:nvPr/>
        </p:nvSpPr>
        <p:spPr>
          <a:xfrm>
            <a:off x="2514600" y="5226120"/>
            <a:ext cx="15238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3A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AutoShape 43"/>
          <p:cNvCxnSpPr>
            <a:stCxn id="457" idx="3"/>
            <a:endCxn id="471" idx="1"/>
          </p:cNvCxnSpPr>
          <p:nvPr/>
        </p:nvCxnSpPr>
        <p:spPr>
          <a:xfrm flipV="1">
            <a:off x="2057400" y="4852800"/>
            <a:ext cx="457920" cy="347760"/>
          </a:xfrm>
          <a:prstGeom prst="bentConnector3">
            <a:avLst>
              <a:gd name="adj1" fmla="val 499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4" name="AutoShape 44"/>
          <p:cNvCxnSpPr>
            <a:stCxn id="457" idx="3"/>
            <a:endCxn id="472" idx="1"/>
          </p:cNvCxnSpPr>
          <p:nvPr/>
        </p:nvCxnSpPr>
        <p:spPr>
          <a:xfrm>
            <a:off x="2057400" y="5200560"/>
            <a:ext cx="457920" cy="216720"/>
          </a:xfrm>
          <a:prstGeom prst="bentConnector3">
            <a:avLst>
              <a:gd name="adj1" fmla="val 4996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5" name="Rectangle 45"/>
          <p:cNvSpPr/>
          <p:nvPr/>
        </p:nvSpPr>
        <p:spPr>
          <a:xfrm>
            <a:off x="2514600" y="5791320"/>
            <a:ext cx="15238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ey Question #3A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AutoShape 46"/>
          <p:cNvCxnSpPr>
            <a:stCxn id="457" idx="3"/>
            <a:endCxn id="475" idx="1"/>
          </p:cNvCxnSpPr>
          <p:nvPr/>
        </p:nvCxnSpPr>
        <p:spPr>
          <a:xfrm>
            <a:off x="2057400" y="5200560"/>
            <a:ext cx="457920" cy="781920"/>
          </a:xfrm>
          <a:prstGeom prst="bentConnector3">
            <a:avLst>
              <a:gd name="adj1" fmla="val 4996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7" name="Text Box 47"/>
          <p:cNvSpPr/>
          <p:nvPr/>
        </p:nvSpPr>
        <p:spPr>
          <a:xfrm>
            <a:off x="4495680" y="5029200"/>
            <a:ext cx="1524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How many employees are 50 years old or older and interested in retir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48"/>
          <p:cNvSpPr/>
          <p:nvPr/>
        </p:nvSpPr>
        <p:spPr>
          <a:xfrm>
            <a:off x="4191120" y="518148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50"/>
          <p:cNvSpPr/>
          <p:nvPr/>
        </p:nvSpPr>
        <p:spPr>
          <a:xfrm>
            <a:off x="6248520" y="297180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51"/>
          <p:cNvSpPr/>
          <p:nvPr/>
        </p:nvSpPr>
        <p:spPr>
          <a:xfrm>
            <a:off x="6248520" y="518148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52"/>
          <p:cNvSpPr/>
          <p:nvPr/>
        </p:nvSpPr>
        <p:spPr>
          <a:xfrm>
            <a:off x="6858000" y="2362320"/>
            <a:ext cx="1676520" cy="137160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55"/>
          <p:cNvSpPr/>
          <p:nvPr/>
        </p:nvSpPr>
        <p:spPr>
          <a:xfrm>
            <a:off x="6934320" y="2362320"/>
            <a:ext cx="1523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Aft>
                <a:spcPts val="162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 Narrow"/>
              </a:rPr>
              <a:t>Number of companies in the indust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Aft>
                <a:spcPts val="162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 Narrow"/>
              </a:rPr>
              <a:t>Revenues for the last 5 yea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Aft>
                <a:spcPts val="162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 Narrow"/>
              </a:rPr>
              <a:t>Et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56"/>
          <p:cNvSpPr/>
          <p:nvPr/>
        </p:nvSpPr>
        <p:spPr>
          <a:xfrm>
            <a:off x="6858000" y="4724280"/>
            <a:ext cx="1676520" cy="137160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57"/>
          <p:cNvSpPr/>
          <p:nvPr/>
        </p:nvSpPr>
        <p:spPr>
          <a:xfrm>
            <a:off x="6934320" y="4818240"/>
            <a:ext cx="152388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Aft>
                <a:spcPts val="162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 Narrow"/>
              </a:rPr>
              <a:t>Ages of the employe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Aft>
                <a:spcPts val="162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 Narrow"/>
              </a:rPr>
              <a:t>Employee interest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Aft>
                <a:spcPts val="162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 Narrow"/>
              </a:rPr>
              <a:t>Et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AAF8-4216-4B22-8CB0-E2F6A9A113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609480" y="2514600"/>
            <a:ext cx="2286000" cy="6858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7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ing Availabl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609480" y="3359160"/>
            <a:ext cx="2286000" cy="6858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7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ser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09480" y="4191120"/>
            <a:ext cx="2286000" cy="6858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7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vi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609480" y="5008680"/>
            <a:ext cx="2286000" cy="6858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7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dministering Written Question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609480" y="5827680"/>
            <a:ext cx="2286000" cy="6858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7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ducting Focus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3048120" y="259884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Using data that has already been collected by 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3048120" y="3230640"/>
            <a:ext cx="27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Systematically selecting, watching and recording behavior and characteristics of people, objects or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3048120" y="42750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Oral questioning of respondents, either individually or as a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>
            <a:off x="3048120" y="498492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Collecting data based on answers provided by respondents in written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3048120" y="58053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Facilitating free discussions on specific topics with selected group of 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9"/>
          <p:cNvSpPr/>
          <p:nvPr/>
        </p:nvSpPr>
        <p:spPr>
          <a:xfrm>
            <a:off x="533520" y="3276720"/>
            <a:ext cx="8001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533520" y="4114800"/>
            <a:ext cx="8001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21"/>
          <p:cNvSpPr/>
          <p:nvPr/>
        </p:nvSpPr>
        <p:spPr>
          <a:xfrm>
            <a:off x="533520" y="4952880"/>
            <a:ext cx="8001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22"/>
          <p:cNvSpPr/>
          <p:nvPr/>
        </p:nvSpPr>
        <p:spPr>
          <a:xfrm>
            <a:off x="533520" y="5791320"/>
            <a:ext cx="8001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23"/>
          <p:cNvSpPr/>
          <p:nvPr/>
        </p:nvSpPr>
        <p:spPr>
          <a:xfrm flipH="1">
            <a:off x="3048120" y="2057400"/>
            <a:ext cx="1440" cy="45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533520" y="2438280"/>
            <a:ext cx="8001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609480" y="2025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 Narrow"/>
              </a:rPr>
              <a:t>Tech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26"/>
          <p:cNvSpPr/>
          <p:nvPr/>
        </p:nvSpPr>
        <p:spPr>
          <a:xfrm flipH="1">
            <a:off x="5789160" y="2057400"/>
            <a:ext cx="1800" cy="45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5791320" y="259884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Check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Data compilation 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8"/>
          <p:cNvSpPr/>
          <p:nvPr/>
        </p:nvSpPr>
        <p:spPr>
          <a:xfrm>
            <a:off x="3048120" y="2025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 Narrow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29"/>
          <p:cNvSpPr/>
          <p:nvPr/>
        </p:nvSpPr>
        <p:spPr>
          <a:xfrm>
            <a:off x="5791320" y="2025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 Narrow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0"/>
          <p:cNvSpPr/>
          <p:nvPr/>
        </p:nvSpPr>
        <p:spPr>
          <a:xfrm>
            <a:off x="5791320" y="34434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Eyes and 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Data compilation 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1"/>
          <p:cNvSpPr/>
          <p:nvPr/>
        </p:nvSpPr>
        <p:spPr>
          <a:xfrm>
            <a:off x="5791320" y="42750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Interview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Data compilation 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2"/>
          <p:cNvSpPr/>
          <p:nvPr/>
        </p:nvSpPr>
        <p:spPr>
          <a:xfrm>
            <a:off x="5791320" y="50911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Surv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Questionn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3"/>
          <p:cNvSpPr/>
          <p:nvPr/>
        </p:nvSpPr>
        <p:spPr>
          <a:xfrm>
            <a:off x="5791320" y="59119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e"/>
                </a:solidFill>
                <a:latin typeface="Arial Narrow"/>
              </a:rPr>
              <a:t>Flip cha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02FD-EBB9-4CD6-BF20-4D028A5443A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e of Combining Different Data Collec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5866920"/>
            <a:ext cx="85341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e"/>
                </a:solidFill>
                <a:latin typeface="Arial Narrow"/>
              </a:rPr>
              <a:t>A skillful use of a combination of qualitative and quantitative techniques will give a more comprehensive understanding of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457200" y="2133720"/>
            <a:ext cx="3581280" cy="8380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50000">
                <a:srgbClr val="3b3b00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 Narrow"/>
              </a:rPr>
              <a:t>Qualitative  Techn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 Narrow"/>
              </a:rPr>
              <a:t>(Flexibl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5029200" y="2133720"/>
            <a:ext cx="3581280" cy="8380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50000">
                <a:srgbClr val="3b3b00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 Narrow"/>
              </a:rPr>
              <a:t>Quantitative Techniqu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 Narrow"/>
              </a:rPr>
              <a:t>(Less Flexibl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4191120" y="2324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e"/>
                </a:solidFill>
                <a:latin typeface="Arial Narrow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533520" y="3130560"/>
            <a:ext cx="3504960" cy="24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100000"/>
              </a:lnSpc>
              <a:spcAft>
                <a:spcPts val="400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Produce qualitative data that is often recorded in narrativ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400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Useful in answering the "why", "what", and "how" ques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400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Typically includ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0680">
              <a:lnSpc>
                <a:spcPct val="100000"/>
              </a:lnSpc>
              <a:spcAft>
                <a:spcPts val="400"/>
              </a:spcAft>
              <a:buClr>
                <a:srgbClr val="a5002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Loosely structured interviews using open-ended ques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0680">
              <a:lnSpc>
                <a:spcPct val="100000"/>
              </a:lnSpc>
              <a:spcAft>
                <a:spcPts val="400"/>
              </a:spcAft>
              <a:buClr>
                <a:srgbClr val="a5002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Focus group discu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0680">
              <a:lnSpc>
                <a:spcPct val="100000"/>
              </a:lnSpc>
              <a:spcAft>
                <a:spcPts val="400"/>
              </a:spcAft>
              <a:buClr>
                <a:srgbClr val="a5002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5105520" y="3124080"/>
            <a:ext cx="3504960" cy="20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100000"/>
              </a:lnSpc>
              <a:spcAft>
                <a:spcPts val="400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Structured questionnaires designed to quantify pre- or post-categorized answers to ques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400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Useful in answering the "how many", "how often", "how significant", etc.  ques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400"/>
              </a:spcAft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Answers to questions can be counted and expressed 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 AND TECHNIQU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CONDUCTING THE ANALYSI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0" y="-3625560"/>
            <a:ext cx="144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0093-74DF-4EFC-9000-82032341779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ing th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232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xt step in problem solving is to "make sense" of the information collected in the previous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bundance of analytical techniques that can be applied for understa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228600" y="4114800"/>
            <a:ext cx="4648320" cy="3373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the most important issu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5638680" y="4114800"/>
            <a:ext cx="24386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et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 rot="5400000">
            <a:off x="5139360" y="4156920"/>
            <a:ext cx="23652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100000">
                <a:srgbClr val="2f4776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228600" y="5943600"/>
            <a:ext cx="4724280" cy="3373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forces can influence the proble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228600" y="5334120"/>
            <a:ext cx="4648320" cy="3373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the core competencies of the clie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228600" y="4724280"/>
            <a:ext cx="4648320" cy="3373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performance areas are wea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1"/>
          <p:cNvSpPr/>
          <p:nvPr/>
        </p:nvSpPr>
        <p:spPr>
          <a:xfrm>
            <a:off x="5638680" y="5943600"/>
            <a:ext cx="24386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ce Field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5638680" y="5334120"/>
            <a:ext cx="24386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5638680" y="4724280"/>
            <a:ext cx="24386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 rot="5400000">
            <a:off x="5215320" y="5985720"/>
            <a:ext cx="23652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100000">
                <a:srgbClr val="2f4776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 rot="5400000">
            <a:off x="5215320" y="4766400"/>
            <a:ext cx="23652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100000">
                <a:srgbClr val="2f4776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 rot="5400000">
            <a:off x="5215320" y="5375880"/>
            <a:ext cx="23652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100000">
                <a:srgbClr val="2f4776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88AB-604D-4355-B27F-923F834BCCD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Sequential Steps that lead up to the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144792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 Narrow"/>
              </a:rPr>
              <a:t>Make sure you know what you are trying to solve – Clearly defined issues or questions drive the analys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13"/>
          <p:cNvSpPr/>
          <p:nvPr/>
        </p:nvSpPr>
        <p:spPr>
          <a:xfrm>
            <a:off x="533520" y="2514600"/>
            <a:ext cx="68580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6094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5"/>
          <p:cNvSpPr/>
          <p:nvPr/>
        </p:nvSpPr>
        <p:spPr>
          <a:xfrm>
            <a:off x="533520" y="3657600"/>
            <a:ext cx="68580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6"/>
          <p:cNvSpPr/>
          <p:nvPr/>
        </p:nvSpPr>
        <p:spPr>
          <a:xfrm>
            <a:off x="6094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7"/>
          <p:cNvSpPr/>
          <p:nvPr/>
        </p:nvSpPr>
        <p:spPr>
          <a:xfrm>
            <a:off x="609480" y="4876920"/>
            <a:ext cx="68580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68580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1447920" y="4800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 Narrow"/>
              </a:rPr>
              <a:t>Once you’ve matched up the analytical tools against the question or issue, then go out and collect the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1447920" y="3581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 Narrow"/>
              </a:rPr>
              <a:t>Match up the clearly defined question or issue with the appropriate analytical tool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67A2-96E1-4A6A-9093-43D740D3F79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76"/>
          <p:cNvSpPr/>
          <p:nvPr/>
        </p:nvSpPr>
        <p:spPr>
          <a:xfrm>
            <a:off x="6705720" y="3429000"/>
            <a:ext cx="1371600" cy="38088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analytical tools and move back up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228600" y="4122720"/>
            <a:ext cx="574560" cy="150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923760" y="3565440"/>
            <a:ext cx="574920" cy="150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Issue #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923760" y="4122720"/>
            <a:ext cx="574920" cy="150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Issue #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923760" y="4816440"/>
            <a:ext cx="574920" cy="150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Issue #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AutoShape 8"/>
          <p:cNvCxnSpPr>
            <a:stCxn id="551" idx="3"/>
            <a:endCxn id="552" idx="1"/>
          </p:cNvCxnSpPr>
          <p:nvPr/>
        </p:nvCxnSpPr>
        <p:spPr>
          <a:xfrm flipV="1">
            <a:off x="802800" y="3639240"/>
            <a:ext cx="121320" cy="5598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6" name="AutoShape 9"/>
          <p:cNvCxnSpPr>
            <a:stCxn id="551" idx="3"/>
            <a:endCxn id="553" idx="1"/>
          </p:cNvCxnSpPr>
          <p:nvPr/>
        </p:nvCxnSpPr>
        <p:spPr>
          <a:xfrm>
            <a:off x="802800" y="4198680"/>
            <a:ext cx="12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7" name="AutoShape 10"/>
          <p:cNvCxnSpPr>
            <a:stCxn id="551" idx="3"/>
            <a:endCxn id="554" idx="1"/>
          </p:cNvCxnSpPr>
          <p:nvPr/>
        </p:nvCxnSpPr>
        <p:spPr>
          <a:xfrm>
            <a:off x="802800" y="4199040"/>
            <a:ext cx="121320" cy="692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58" name="Rectangle 11"/>
          <p:cNvSpPr/>
          <p:nvPr/>
        </p:nvSpPr>
        <p:spPr>
          <a:xfrm>
            <a:off x="1635120" y="3459240"/>
            <a:ext cx="574560" cy="150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1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635120" y="3686040"/>
            <a:ext cx="574560" cy="150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1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AutoShape 13"/>
          <p:cNvCxnSpPr>
            <a:stCxn id="552" idx="3"/>
            <a:endCxn id="558" idx="1"/>
          </p:cNvCxnSpPr>
          <p:nvPr/>
        </p:nvCxnSpPr>
        <p:spPr>
          <a:xfrm flipV="1">
            <a:off x="1498320" y="3534480"/>
            <a:ext cx="137160" cy="1054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61" name="AutoShape 14"/>
          <p:cNvCxnSpPr>
            <a:stCxn id="552" idx="3"/>
            <a:endCxn id="559" idx="1"/>
          </p:cNvCxnSpPr>
          <p:nvPr/>
        </p:nvCxnSpPr>
        <p:spPr>
          <a:xfrm>
            <a:off x="1498320" y="3639960"/>
            <a:ext cx="137160" cy="1216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62" name="Rectangle 15"/>
          <p:cNvSpPr/>
          <p:nvPr/>
        </p:nvSpPr>
        <p:spPr>
          <a:xfrm>
            <a:off x="1635120" y="4024440"/>
            <a:ext cx="57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2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6"/>
          <p:cNvSpPr/>
          <p:nvPr/>
        </p:nvSpPr>
        <p:spPr>
          <a:xfrm>
            <a:off x="1635120" y="4243320"/>
            <a:ext cx="57456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2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AutoShape 17"/>
          <p:cNvCxnSpPr>
            <a:stCxn id="553" idx="3"/>
            <a:endCxn id="562" idx="1"/>
          </p:cNvCxnSpPr>
          <p:nvPr/>
        </p:nvCxnSpPr>
        <p:spPr>
          <a:xfrm flipV="1">
            <a:off x="1498320" y="4100040"/>
            <a:ext cx="137160" cy="993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65" name="AutoShape 18"/>
          <p:cNvCxnSpPr>
            <a:stCxn id="553" idx="3"/>
            <a:endCxn id="563" idx="1"/>
          </p:cNvCxnSpPr>
          <p:nvPr/>
        </p:nvCxnSpPr>
        <p:spPr>
          <a:xfrm>
            <a:off x="1498320" y="4198680"/>
            <a:ext cx="137160" cy="1213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66" name="Rectangle 19"/>
          <p:cNvSpPr/>
          <p:nvPr/>
        </p:nvSpPr>
        <p:spPr>
          <a:xfrm>
            <a:off x="1635120" y="4702320"/>
            <a:ext cx="57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3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1635120" y="4929120"/>
            <a:ext cx="574560" cy="150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Hypothesis #3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AutoShape 21"/>
          <p:cNvCxnSpPr>
            <a:stCxn id="554" idx="3"/>
            <a:endCxn id="566" idx="1"/>
          </p:cNvCxnSpPr>
          <p:nvPr/>
        </p:nvCxnSpPr>
        <p:spPr>
          <a:xfrm flipV="1">
            <a:off x="1498320" y="4777560"/>
            <a:ext cx="137160" cy="1134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69" name="AutoShape 22"/>
          <p:cNvCxnSpPr>
            <a:stCxn id="554" idx="3"/>
            <a:endCxn id="567" idx="1"/>
          </p:cNvCxnSpPr>
          <p:nvPr/>
        </p:nvCxnSpPr>
        <p:spPr>
          <a:xfrm>
            <a:off x="1498320" y="4892400"/>
            <a:ext cx="137160" cy="1134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70" name="Oval 23"/>
          <p:cNvSpPr/>
          <p:nvPr/>
        </p:nvSpPr>
        <p:spPr>
          <a:xfrm>
            <a:off x="4114800" y="3886200"/>
            <a:ext cx="2743200" cy="7621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 Narrow"/>
              </a:rPr>
              <a:t>What analysis needs to be done to answer this questi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2400480" y="3249720"/>
            <a:ext cx="838080" cy="133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Key Question #1A-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27"/>
          <p:cNvSpPr/>
          <p:nvPr/>
        </p:nvSpPr>
        <p:spPr>
          <a:xfrm>
            <a:off x="2400480" y="3468600"/>
            <a:ext cx="838080" cy="133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Key Question #1A-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AutoShape 28"/>
          <p:cNvCxnSpPr>
            <a:stCxn id="558" idx="3"/>
            <a:endCxn id="571" idx="1"/>
          </p:cNvCxnSpPr>
          <p:nvPr/>
        </p:nvCxnSpPr>
        <p:spPr>
          <a:xfrm flipV="1">
            <a:off x="2209680" y="3315960"/>
            <a:ext cx="191520" cy="219600"/>
          </a:xfrm>
          <a:prstGeom prst="bentConnector3">
            <a:avLst>
              <a:gd name="adj1" fmla="val 49905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74" name="AutoShape 29"/>
          <p:cNvCxnSpPr>
            <a:stCxn id="558" idx="3"/>
            <a:endCxn id="572" idx="1"/>
          </p:cNvCxnSpPr>
          <p:nvPr/>
        </p:nvCxnSpPr>
        <p:spPr>
          <a:xfrm>
            <a:off x="2209680" y="3534840"/>
            <a:ext cx="191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75" name="Rectangle 30"/>
          <p:cNvSpPr/>
          <p:nvPr/>
        </p:nvSpPr>
        <p:spPr>
          <a:xfrm>
            <a:off x="2400480" y="3687840"/>
            <a:ext cx="838080" cy="133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Key Question #1A-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AutoShape 31"/>
          <p:cNvCxnSpPr>
            <a:stCxn id="558" idx="3"/>
            <a:endCxn id="575" idx="1"/>
          </p:cNvCxnSpPr>
          <p:nvPr/>
        </p:nvCxnSpPr>
        <p:spPr>
          <a:xfrm>
            <a:off x="2209680" y="3534840"/>
            <a:ext cx="191520" cy="219960"/>
          </a:xfrm>
          <a:prstGeom prst="bentConnector3">
            <a:avLst>
              <a:gd name="adj1" fmla="val 49905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77" name="Text Box 33"/>
          <p:cNvSpPr/>
          <p:nvPr/>
        </p:nvSpPr>
        <p:spPr>
          <a:xfrm>
            <a:off x="2057400" y="251460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ce"/>
                </a:solidFill>
                <a:latin typeface="Arial Narrow"/>
              </a:rPr>
              <a:t>How many are large enough to take on the client's busi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4"/>
          <p:cNvSpPr/>
          <p:nvPr/>
        </p:nvSpPr>
        <p:spPr>
          <a:xfrm>
            <a:off x="2400480" y="4754520"/>
            <a:ext cx="838080" cy="133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Key Question #3A-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5"/>
          <p:cNvSpPr/>
          <p:nvPr/>
        </p:nvSpPr>
        <p:spPr>
          <a:xfrm>
            <a:off x="2400480" y="4944960"/>
            <a:ext cx="838080" cy="133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Key Question #3A-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AutoShape 36"/>
          <p:cNvCxnSpPr>
            <a:stCxn id="567" idx="3"/>
            <a:endCxn id="578" idx="1"/>
          </p:cNvCxnSpPr>
          <p:nvPr/>
        </p:nvCxnSpPr>
        <p:spPr>
          <a:xfrm flipV="1">
            <a:off x="2209680" y="4820760"/>
            <a:ext cx="191520" cy="185040"/>
          </a:xfrm>
          <a:prstGeom prst="bentConnector3">
            <a:avLst>
              <a:gd name="adj1" fmla="val 49905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81" name="AutoShape 37"/>
          <p:cNvCxnSpPr>
            <a:stCxn id="567" idx="3"/>
            <a:endCxn id="579" idx="1"/>
          </p:cNvCxnSpPr>
          <p:nvPr/>
        </p:nvCxnSpPr>
        <p:spPr>
          <a:xfrm>
            <a:off x="2209680" y="5005080"/>
            <a:ext cx="191520" cy="6840"/>
          </a:xfrm>
          <a:prstGeom prst="bentConnector3">
            <a:avLst>
              <a:gd name="adj1" fmla="val 49905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82" name="Rectangle 38"/>
          <p:cNvSpPr/>
          <p:nvPr/>
        </p:nvSpPr>
        <p:spPr>
          <a:xfrm>
            <a:off x="2400480" y="5135400"/>
            <a:ext cx="838080" cy="133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Key Question #3A-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AutoShape 39"/>
          <p:cNvCxnSpPr>
            <a:stCxn id="567" idx="3"/>
            <a:endCxn id="582" idx="1"/>
          </p:cNvCxnSpPr>
          <p:nvPr/>
        </p:nvCxnSpPr>
        <p:spPr>
          <a:xfrm>
            <a:off x="2209680" y="5005080"/>
            <a:ext cx="191520" cy="197640"/>
          </a:xfrm>
          <a:prstGeom prst="bentConnector3">
            <a:avLst>
              <a:gd name="adj1" fmla="val 49905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84" name="Text Box 40"/>
          <p:cNvSpPr/>
          <p:nvPr/>
        </p:nvSpPr>
        <p:spPr>
          <a:xfrm>
            <a:off x="2057400" y="528804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ce"/>
                </a:solidFill>
                <a:latin typeface="Arial Narrow"/>
              </a:rPr>
              <a:t>How many employees are 50 years old or older and interested in retir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52"/>
          <p:cNvSpPr/>
          <p:nvPr/>
        </p:nvSpPr>
        <p:spPr>
          <a:xfrm>
            <a:off x="3733920" y="2819520"/>
            <a:ext cx="1523880" cy="3808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 Narrow"/>
              </a:rPr>
              <a:t># of companies in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3"/>
          <p:cNvSpPr/>
          <p:nvPr/>
        </p:nvSpPr>
        <p:spPr>
          <a:xfrm>
            <a:off x="3733920" y="3382920"/>
            <a:ext cx="1523880" cy="3808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 Narrow"/>
              </a:rPr>
              <a:t>Revenues for last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7" name="AutoShape 54"/>
          <p:cNvCxnSpPr>
            <a:stCxn id="571" idx="3"/>
            <a:endCxn id="585" idx="1"/>
          </p:cNvCxnSpPr>
          <p:nvPr/>
        </p:nvCxnSpPr>
        <p:spPr>
          <a:xfrm flipV="1">
            <a:off x="3238560" y="3009600"/>
            <a:ext cx="496080" cy="306720"/>
          </a:xfrm>
          <a:prstGeom prst="bentConnector3">
            <a:avLst>
              <a:gd name="adj1" fmla="val 4996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AutoShape 55"/>
          <p:cNvCxnSpPr>
            <a:stCxn id="571" idx="3"/>
            <a:endCxn id="586" idx="1"/>
          </p:cNvCxnSpPr>
          <p:nvPr/>
        </p:nvCxnSpPr>
        <p:spPr>
          <a:xfrm>
            <a:off x="3238560" y="3316320"/>
            <a:ext cx="496080" cy="257760"/>
          </a:xfrm>
          <a:prstGeom prst="bentConnector3">
            <a:avLst>
              <a:gd name="adj1" fmla="val 499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Rectangle 60"/>
          <p:cNvSpPr/>
          <p:nvPr/>
        </p:nvSpPr>
        <p:spPr>
          <a:xfrm>
            <a:off x="3772080" y="4724280"/>
            <a:ext cx="152388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 Narrow"/>
              </a:rPr>
              <a:t>Age of employ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1"/>
          <p:cNvSpPr/>
          <p:nvPr/>
        </p:nvSpPr>
        <p:spPr>
          <a:xfrm>
            <a:off x="3772080" y="5288040"/>
            <a:ext cx="1523880" cy="3808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 Narrow"/>
              </a:rPr>
              <a:t>Employee interest level in ret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AutoShape 62"/>
          <p:cNvCxnSpPr>
            <a:stCxn id="582" idx="3"/>
            <a:endCxn id="589" idx="1"/>
          </p:cNvCxnSpPr>
          <p:nvPr/>
        </p:nvCxnSpPr>
        <p:spPr>
          <a:xfrm flipV="1">
            <a:off x="3238560" y="4914720"/>
            <a:ext cx="534240" cy="288000"/>
          </a:xfrm>
          <a:prstGeom prst="bentConnector3">
            <a:avLst>
              <a:gd name="adj1" fmla="val 49966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2" name="AutoShape 63"/>
          <p:cNvCxnSpPr>
            <a:stCxn id="582" idx="3"/>
            <a:endCxn id="590" idx="1"/>
          </p:cNvCxnSpPr>
          <p:nvPr/>
        </p:nvCxnSpPr>
        <p:spPr>
          <a:xfrm>
            <a:off x="3238560" y="5202000"/>
            <a:ext cx="534240" cy="276840"/>
          </a:xfrm>
          <a:prstGeom prst="bentConnector3">
            <a:avLst>
              <a:gd name="adj1" fmla="val 499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3" name="Text Box 67"/>
          <p:cNvSpPr/>
          <p:nvPr/>
        </p:nvSpPr>
        <p:spPr>
          <a:xfrm>
            <a:off x="3733920" y="18288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1. Start with clearly defined issues or ques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8"/>
          <p:cNvSpPr/>
          <p:nvPr/>
        </p:nvSpPr>
        <p:spPr>
          <a:xfrm flipH="1">
            <a:off x="3593160" y="2203560"/>
            <a:ext cx="633240" cy="402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71"/>
          <p:cNvSpPr/>
          <p:nvPr/>
        </p:nvSpPr>
        <p:spPr>
          <a:xfrm>
            <a:off x="5638680" y="25146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2. Select the Analytical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2"/>
          <p:cNvSpPr/>
          <p:nvPr/>
        </p:nvSpPr>
        <p:spPr>
          <a:xfrm>
            <a:off x="6705720" y="29718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3"/>
          <p:cNvSpPr/>
          <p:nvPr/>
        </p:nvSpPr>
        <p:spPr>
          <a:xfrm>
            <a:off x="6705720" y="34290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Bench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77"/>
          <p:cNvSpPr/>
          <p:nvPr/>
        </p:nvSpPr>
        <p:spPr>
          <a:xfrm>
            <a:off x="6095880" y="480060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3. Collect required information per  the Analytical Tool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78"/>
          <p:cNvSpPr/>
          <p:nvPr/>
        </p:nvSpPr>
        <p:spPr>
          <a:xfrm>
            <a:off x="7486560" y="3934800"/>
            <a:ext cx="2556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79"/>
          <p:cNvSpPr/>
          <p:nvPr/>
        </p:nvSpPr>
        <p:spPr>
          <a:xfrm>
            <a:off x="3962520" y="594360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4. Once you complete your analysis, move back upstream to answer the key question you start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80"/>
          <p:cNvSpPr/>
          <p:nvPr/>
        </p:nvSpPr>
        <p:spPr>
          <a:xfrm flipH="1">
            <a:off x="6803640" y="5449680"/>
            <a:ext cx="226080" cy="43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82"/>
          <p:cNvSpPr/>
          <p:nvPr/>
        </p:nvSpPr>
        <p:spPr>
          <a:xfrm>
            <a:off x="525780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83"/>
          <p:cNvSpPr/>
          <p:nvPr/>
        </p:nvSpPr>
        <p:spPr>
          <a:xfrm>
            <a:off x="586728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5867280" y="35812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8352-6468-4F50-A7F8-B145986933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al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ing – Compare and measure a process or activity against an internal or external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ysis – Assessment of strengths, weaknesses, opportunities, and thre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Field Analysis – Overall environmental landscape and how it impacts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Benefit Analysis – Compare total equivalent costs (all the minuses) against equivalent value in benefits (all the plu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Analysis – What if type analysis to assess the impact of change on an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to Chart – Bar Chart for categorizing issues or other attributes in terms of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E46C-8C64-4EA1-82E8-50F3A53A06B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end of this session, participants should be able to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stand the systematic process of problem solv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 the issue as a starting point for your pro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the “drivers” behind your iss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 how to apply specific techniques, such as brainstorming, root cause analysis, and SWO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 how to test your proposed solutions before submission to the cli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 how to present viable solutions for solving critical problems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8FB4-E633-4674-BA95-B9C5B8824FF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60360" y="1904760"/>
            <a:ext cx="84232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and compares your performance against other similar activities or processes internally or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dicate possible performanc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difficult to collect comparable measur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“best in class” performance is better than comparing averag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sources of data are in the private sector -Hays Benchmarking, Benchmarking Exchange, The Benchmarking Exchange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CFCB-D619-47AB-AE96-BEFE15EF6F2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85"/>
          <p:cNvSpPr/>
          <p:nvPr/>
        </p:nvSpPr>
        <p:spPr>
          <a:xfrm>
            <a:off x="685800" y="2590920"/>
            <a:ext cx="6324480" cy="35812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7"/>
          <p:cNvSpPr/>
          <p:nvPr/>
        </p:nvSpPr>
        <p:spPr>
          <a:xfrm>
            <a:off x="914400" y="2743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Narrow"/>
              </a:rPr>
              <a:t>Air Force . . . . . . . . . . .  75 D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88"/>
          <p:cNvSpPr/>
          <p:nvPr/>
        </p:nvSpPr>
        <p:spPr>
          <a:xfrm>
            <a:off x="914400" y="3581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Narrow"/>
              </a:rPr>
              <a:t>Army . . . . . . . . . . . . . . . 96 D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89"/>
          <p:cNvSpPr/>
          <p:nvPr/>
        </p:nvSpPr>
        <p:spPr>
          <a:xfrm>
            <a:off x="914400" y="53341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Narrow"/>
              </a:rPr>
              <a:t>Canadian Army . . . . . .  145 D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90"/>
          <p:cNvSpPr/>
          <p:nvPr/>
        </p:nvSpPr>
        <p:spPr>
          <a:xfrm>
            <a:off x="914400" y="4495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Narrow"/>
              </a:rPr>
              <a:t>Navy . . . . . . . . . . . . . . . 116 Day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91"/>
          <p:cNvSpPr/>
          <p:nvPr/>
        </p:nvSpPr>
        <p:spPr>
          <a:xfrm>
            <a:off x="609480" y="19051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 Narrow"/>
              </a:rPr>
              <a:t>Average Days for Source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93F-3198-4E30-BBFD-BADC0627B1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T – Strengths Weaknesses Opportunities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es Strengths, Weaknesses, Opportunities, and Threats by asking: What things are we good at, what things are we not good at, what things might we do, and what things should we not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y the most common analytical tool for strategic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what su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understand and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useful for identifying the core competencies of any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151D-C822-4519-B019-7DF17928140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T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228600" y="1905120"/>
            <a:ext cx="84582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ternal Assessment of the organization, its people, services, competenci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304920" y="4114800"/>
            <a:ext cx="84582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xternal Assessment of direct and indirect forces, social, economic, political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304920" y="27432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Client has a global infrastructure to service all types of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838080" y="2362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 Narrow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5181480" y="2362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 Narrow"/>
              </a:rPr>
              <a:t>Weak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304920" y="3352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Services are in high demand in most parts of the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4724280" y="27432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Client has limited resources for expanding its global r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4724280" y="3352680"/>
            <a:ext cx="40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Key processes are not very cost competitive when compared to other service 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304920" y="50292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Untapped demand exists in almost half of the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304920" y="57913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New Technologies make it possible to expand service r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4876920" y="50292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Other clients are investing in newer technolog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4876920" y="57913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Some clients are entering into strategic partnerships to expand their global 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5334120" y="4572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 Narrow"/>
              </a:rPr>
              <a:t>Thre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838080" y="4572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 Narrow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4554-2BD8-4010-A6F4-C897294AE5E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ly shows significant forces that impact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tend to be those factors that promote or hinder a solution to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forces between direct (more important) and indirect (less import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brainstorm to generate ideas to list all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2983-27B4-4FCB-B5A7-00D67447B8E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e Field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380880" y="3809880"/>
            <a:ext cx="35053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 Narrow"/>
              </a:rPr>
              <a:t>Defense Department is promoting the Balanced Score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 Narrow"/>
              </a:rPr>
              <a:t>Federal Public Sector has mandates such as G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 Narrow"/>
              </a:rPr>
              <a:t>Lower level agencies have balanced scorecards in 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 Narrow"/>
              </a:rPr>
              <a:t>Strategic planning is growing in importance within the entire public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1600200" y="62485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Direct – More Import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Indirect – Less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914400" y="2895480"/>
            <a:ext cx="2438280" cy="5806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ve Forces – Promotes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1295280" y="2133720"/>
            <a:ext cx="6629400" cy="3988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 Agency is not strategically foc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8"/>
          <p:cNvSpPr/>
          <p:nvPr/>
        </p:nvSpPr>
        <p:spPr>
          <a:xfrm>
            <a:off x="5410080" y="2895480"/>
            <a:ext cx="24386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ative Forces – Inhibits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9"/>
          <p:cNvSpPr/>
          <p:nvPr/>
        </p:nvSpPr>
        <p:spPr>
          <a:xfrm>
            <a:off x="5105520" y="3809880"/>
            <a:ext cx="3504960" cy="20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 Narrow"/>
              </a:rPr>
              <a:t>Public Sector mandates lack enforcement teeth – no major urgency to become strategically focus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 Narrow"/>
              </a:rPr>
              <a:t>Agency is not resourced to develop strategic plans and execute on non-strategic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 Narrow"/>
              </a:rPr>
              <a:t>Agency has too many other change initiatives going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6248-A5C6-448E-8C92-59D5811AD71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60360" y="2133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ll expected costs and benefits to make sure the decision has economic mer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includes all tangible outlays (time, money, etc.) and intangible /qualitative factors where you can assign som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using a set of decision criteria – oranges to oranges, apples to appl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net changes between making the decision vs. not making the dec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of Management and Budget Circular A-94 provides guidelines on how to do cost benefit analysis in the Federal Public Se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9B04-5C86-458E-A745-194B5594EF2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Benefit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304920" y="2819520"/>
            <a:ext cx="373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Software License F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Upgrade network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Database developmen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Training of end-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Requires regular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838080" y="2362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 Narrow"/>
              </a:rPr>
              <a:t>The Costs (min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5181480" y="2362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 Narrow"/>
              </a:rPr>
              <a:t>The Benefits (pl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17"/>
          <p:cNvSpPr/>
          <p:nvPr/>
        </p:nvSpPr>
        <p:spPr>
          <a:xfrm>
            <a:off x="228600" y="1905120"/>
            <a:ext cx="84582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hoice A: Proposed Solution - Design and develop an on-line databas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8"/>
          <p:cNvSpPr/>
          <p:nvPr/>
        </p:nvSpPr>
        <p:spPr>
          <a:xfrm>
            <a:off x="4495680" y="2819520"/>
            <a:ext cx="396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 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Consistent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Reduced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Much faster turnarounds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  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updating master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Improved accuracy in repor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20"/>
          <p:cNvSpPr/>
          <p:nvPr/>
        </p:nvSpPr>
        <p:spPr>
          <a:xfrm>
            <a:off x="304920" y="4800600"/>
            <a:ext cx="84582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hoice B: Do Nothing – Status Q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1"/>
          <p:cNvSpPr/>
          <p:nvPr/>
        </p:nvSpPr>
        <p:spPr>
          <a:xfrm>
            <a:off x="380880" y="5334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e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Software License F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Maintenance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ce"/>
                </a:solidFill>
                <a:latin typeface="Arial Narrow"/>
              </a:rPr>
              <a:t>Planned Up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4"/>
          <p:cNvSpPr/>
          <p:nvPr/>
        </p:nvSpPr>
        <p:spPr>
          <a:xfrm>
            <a:off x="838080" y="6324480"/>
            <a:ext cx="3353040" cy="3222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Change in Costs Choice A – B =  $ 7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5"/>
          <p:cNvSpPr/>
          <p:nvPr/>
        </p:nvSpPr>
        <p:spPr>
          <a:xfrm>
            <a:off x="4572000" y="6324480"/>
            <a:ext cx="3809880" cy="3222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Change in Benefits Choice A – B =  $ 95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26"/>
          <p:cNvSpPr/>
          <p:nvPr/>
        </p:nvSpPr>
        <p:spPr>
          <a:xfrm rot="16200000">
            <a:off x="4114800" y="548640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7"/>
          <p:cNvSpPr/>
          <p:nvPr/>
        </p:nvSpPr>
        <p:spPr>
          <a:xfrm>
            <a:off x="3733920" y="5410080"/>
            <a:ext cx="114300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et Benefit = $ 25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CD92-D0D1-48F4-9995-9CF57C0CAD0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broad and diverse effects or outcomes associated with a problem and/or the propose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certain questions: How will this change impact our agency? What are the consequences of not acting on the probl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is to minimize adverse or negative impacts going 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useful in assessing risk of different proposed solutions – helps you reach the righ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tools can be used to asses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B6A-E642-4545-825F-8E8C3CFF2A2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60360" y="2133720"/>
            <a:ext cx="842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Playing – Storyboarding out how the future will unfold between alternatives: Do Nothing vs.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Benefit Analysis - Used to quantify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 Analysis – Build a tree and assign probabilities to each alternative to arrive at the most likely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– Modeling a process and seeing how it changes when one or more variables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odel – Build and test the solution on a small scale before implementation to flush out 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-3625560"/>
            <a:ext cx="144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787A-6AF6-467E-9445-BAAAE5CCAAA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to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60360" y="1981080"/>
            <a:ext cx="842328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fies what is most important on a graph – 80 / 20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focus on the significant problems 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group problems or issues based on a common and measurable attribute (such as reworks, errors, downtime, hours, etc.) = Left Vertical Axis of Bar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ategorize problems or issues – what type is it? (poor quality, long wait times, etc.) = Right Horizontal Axis of Bar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he data and rank according to frequency – descending order from left to righ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37D3-32E2-4EAD-9BC9-9D6C7AFAC22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to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"/>
          <p:cNvSpPr/>
          <p:nvPr/>
        </p:nvSpPr>
        <p:spPr>
          <a:xfrm>
            <a:off x="914400" y="205740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5"/>
          <p:cNvSpPr/>
          <p:nvPr/>
        </p:nvSpPr>
        <p:spPr>
          <a:xfrm>
            <a:off x="914400" y="5867280"/>
            <a:ext cx="670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1378080" y="2521080"/>
            <a:ext cx="749160" cy="33400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2825640" y="4578480"/>
            <a:ext cx="749520" cy="128268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4273560" y="5340240"/>
            <a:ext cx="749160" cy="520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5721480" y="5568840"/>
            <a:ext cx="749160" cy="2923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10"/>
          <p:cNvSpPr/>
          <p:nvPr/>
        </p:nvSpPr>
        <p:spPr>
          <a:xfrm>
            <a:off x="7016760" y="5721480"/>
            <a:ext cx="749160" cy="13968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1"/>
          <p:cNvSpPr/>
          <p:nvPr/>
        </p:nvSpPr>
        <p:spPr>
          <a:xfrm rot="16140000">
            <a:off x="-261000" y="3284280"/>
            <a:ext cx="143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2"/>
          <p:cNvSpPr/>
          <p:nvPr/>
        </p:nvSpPr>
        <p:spPr>
          <a:xfrm>
            <a:off x="9144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3"/>
          <p:cNvSpPr/>
          <p:nvPr/>
        </p:nvSpPr>
        <p:spPr>
          <a:xfrm>
            <a:off x="9144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4"/>
          <p:cNvSpPr/>
          <p:nvPr/>
        </p:nvSpPr>
        <p:spPr>
          <a:xfrm>
            <a:off x="914400" y="2819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5"/>
          <p:cNvSpPr/>
          <p:nvPr/>
        </p:nvSpPr>
        <p:spPr>
          <a:xfrm>
            <a:off x="91440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6"/>
          <p:cNvSpPr/>
          <p:nvPr/>
        </p:nvSpPr>
        <p:spPr>
          <a:xfrm>
            <a:off x="91440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7"/>
          <p:cNvSpPr/>
          <p:nvPr/>
        </p:nvSpPr>
        <p:spPr>
          <a:xfrm>
            <a:off x="914400" y="3962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8"/>
          <p:cNvSpPr/>
          <p:nvPr/>
        </p:nvSpPr>
        <p:spPr>
          <a:xfrm>
            <a:off x="91440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9"/>
          <p:cNvSpPr/>
          <p:nvPr/>
        </p:nvSpPr>
        <p:spPr>
          <a:xfrm>
            <a:off x="914400" y="4724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20"/>
          <p:cNvSpPr/>
          <p:nvPr/>
        </p:nvSpPr>
        <p:spPr>
          <a:xfrm>
            <a:off x="914400" y="5105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21"/>
          <p:cNvSpPr/>
          <p:nvPr/>
        </p:nvSpPr>
        <p:spPr>
          <a:xfrm>
            <a:off x="91440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22"/>
          <p:cNvSpPr/>
          <p:nvPr/>
        </p:nvSpPr>
        <p:spPr>
          <a:xfrm>
            <a:off x="1990080" y="6157800"/>
            <a:ext cx="172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3"/>
          <p:cNvSpPr/>
          <p:nvPr/>
        </p:nvSpPr>
        <p:spPr>
          <a:xfrm>
            <a:off x="4044960" y="6026040"/>
            <a:ext cx="4330800" cy="7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uses, Products, Mfg. Lines,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chines, Defect Typ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4"/>
          <p:cNvSpPr/>
          <p:nvPr/>
        </p:nvSpPr>
        <p:spPr>
          <a:xfrm rot="16200000">
            <a:off x="-803160" y="5070240"/>
            <a:ext cx="235584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owntime, Errors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# of Employe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401B-DB61-491E-A5DC-627C084050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60360" y="1981080"/>
            <a:ext cx="842328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rush out and collect information until you know what analytical tools you need to use – each tool has its own informa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bination of tools to cover all the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cisions involve some assumptions – so you will never have all the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is a discover driven process, it moves incrementally in baby steps – you learn, adjust and go through numerous iterations until you have insights; i.e. you can now take action on the issue or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 AND TECHNIQU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DEVELOPING THE SOLUTIO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0" y="-3625560"/>
            <a:ext cx="144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555A-C3E4-4001-927E-7F51A378FE8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nd plan the solution that has the greatest impact on solving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olutions rating matrix to weigh different solutions based on selection criteria (costs, probability of success, ease of implem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 should have support from your previous analysis that you can clearly communicate to the cl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your solutions as much as you can – use some of the Impact Analysis Tool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023E-500D-46F8-A56E-18EAB9D8141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60360" y="1981080"/>
            <a:ext cx="842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out-of-the box solutions don’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olution is a guarantee – be flexible with implementation and be willing to revisit you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 rarely work unless you get buy-in and commitment from the client – if the client refuses to accept the solution, it will not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to back up your solution with an implementation plan, complete with milestones to measur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8AEF-05C3-4048-BC27-1606852063C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Land Mines that Blow Analytical Thinking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 problem is defined, Professional Consultants must have some ability to develop a possible solution. If the Consultant ha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ake recommendations for a problem, then the problem has been defin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utside the sc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oj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ient’s defin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oblem may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rr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client may lack the knowledge and experience that Professional Consultants h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mos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bl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t uni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rofessional Consultants may be able to validate the problem and possible solutions against other sources (past projects, other expert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st solu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problem are ofte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o diffic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clien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imp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o be careful about recommending the optimal solution to a problem. Most solutions require some degree of compromise for implemen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5731-E942-4CF5-A607-26313BBE203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60360" y="1981080"/>
            <a:ext cx="842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tical Thinking follows the Scientif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Step Process for Consult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fin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est in the form of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cus on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alysis (Various Analytical To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commend 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8C1C-4264-459F-B719-6D5928B0562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1447920" y="2514600"/>
            <a:ext cx="6945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s for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our participation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EE83-AE65-41AB-AF09-EE1449443F9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tical Thinking follows the scientific approach to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362320" y="2133720"/>
            <a:ext cx="4238640" cy="4238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2639880" y="2411280"/>
            <a:ext cx="3683160" cy="3683160"/>
          </a:xfrm>
          <a:prstGeom prst="ellips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960720" y="2759040"/>
            <a:ext cx="1041480" cy="903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5002200" y="3522600"/>
            <a:ext cx="1042920" cy="903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Hypo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4586400" y="4668840"/>
            <a:ext cx="1041120" cy="903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335400" y="4668840"/>
            <a:ext cx="1041480" cy="903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2987640" y="3522600"/>
            <a:ext cx="1041480" cy="903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2"/>
          <p:cNvSpPr/>
          <p:nvPr/>
        </p:nvSpPr>
        <p:spPr>
          <a:xfrm rot="18000000">
            <a:off x="5306040" y="2896200"/>
            <a:ext cx="138240" cy="625320"/>
          </a:xfrm>
          <a:custGeom>
            <a:avLst/>
            <a:gdLst>
              <a:gd name="textAreaLeft" fmla="*/ 18360 w 138240"/>
              <a:gd name="textAreaRight" fmla="*/ 119880 w 138240"/>
              <a:gd name="textAreaTop" fmla="*/ 109440 h 625320"/>
              <a:gd name="textAreaBottom" fmla="*/ 453600 h 62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3"/>
          <p:cNvSpPr/>
          <p:nvPr/>
        </p:nvSpPr>
        <p:spPr>
          <a:xfrm rot="900000">
            <a:off x="5767200" y="4425480"/>
            <a:ext cx="137880" cy="625680"/>
          </a:xfrm>
          <a:custGeom>
            <a:avLst/>
            <a:gdLst>
              <a:gd name="textAreaLeft" fmla="*/ 18360 w 137880"/>
              <a:gd name="textAreaRight" fmla="*/ 119520 w 137880"/>
              <a:gd name="textAreaTop" fmla="*/ 109440 h 625680"/>
              <a:gd name="textAreaBottom" fmla="*/ 453600 h 62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 rot="5400000">
            <a:off x="4411080" y="5329080"/>
            <a:ext cx="139680" cy="625320"/>
          </a:xfrm>
          <a:custGeom>
            <a:avLst/>
            <a:gdLst>
              <a:gd name="textAreaLeft" fmla="*/ 18720 w 139680"/>
              <a:gd name="textAreaRight" fmla="*/ 120960 w 139680"/>
              <a:gd name="textAreaTop" fmla="*/ 109440 h 625320"/>
              <a:gd name="textAreaBottom" fmla="*/ 453600 h 62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5"/>
          <p:cNvSpPr/>
          <p:nvPr/>
        </p:nvSpPr>
        <p:spPr>
          <a:xfrm rot="9900000">
            <a:off x="3057120" y="4425840"/>
            <a:ext cx="138240" cy="625680"/>
          </a:xfrm>
          <a:custGeom>
            <a:avLst/>
            <a:gdLst>
              <a:gd name="textAreaLeft" fmla="*/ 18360 w 138240"/>
              <a:gd name="textAreaRight" fmla="*/ 119880 w 138240"/>
              <a:gd name="textAreaTop" fmla="*/ 109440 h 625680"/>
              <a:gd name="textAreaBottom" fmla="*/ 453600 h 62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6"/>
          <p:cNvSpPr/>
          <p:nvPr/>
        </p:nvSpPr>
        <p:spPr>
          <a:xfrm rot="13500000">
            <a:off x="3578760" y="2862360"/>
            <a:ext cx="137880" cy="625320"/>
          </a:xfrm>
          <a:custGeom>
            <a:avLst/>
            <a:gdLst>
              <a:gd name="textAreaLeft" fmla="*/ 18360 w 137880"/>
              <a:gd name="textAreaRight" fmla="*/ 119520 w 137880"/>
              <a:gd name="textAreaTop" fmla="*/ 109440 h 625320"/>
              <a:gd name="textAreaBottom" fmla="*/ 453600 h 62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EABB-CBF8-4678-B599-9872C6E9E53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ng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360" y="1904760"/>
            <a:ext cx="842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blem is a situation that is judged as something that needs to be corrected – implies that a state of "wholeness" does not 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mpor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our job to make sure we’re solving the right problem – it may not be the one presented to us by the client. What do we really need to sol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asic Concep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problems are initially identified by our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the problem clearly improves focus – it drives the analytical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to a clearly defined problem is often discovery driven – Start with a conceptual definition and through analysis (root cause, impact analysis, etc.) you shape and redefine the problem in terms of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7467480" y="152280"/>
            <a:ext cx="1524240" cy="1524240"/>
            <a:chOff x="7467480" y="152280"/>
            <a:chExt cx="1524240" cy="1524240"/>
          </a:xfrm>
        </p:grpSpPr>
        <p:sp>
          <p:nvSpPr>
            <p:cNvPr id="120" name="Oval 8"/>
            <p:cNvSpPr/>
            <p:nvPr/>
          </p:nvSpPr>
          <p:spPr>
            <a:xfrm>
              <a:off x="7467480" y="152280"/>
              <a:ext cx="1524240" cy="152424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9"/>
            <p:cNvSpPr/>
            <p:nvPr/>
          </p:nvSpPr>
          <p:spPr>
            <a:xfrm>
              <a:off x="7567200" y="252000"/>
              <a:ext cx="1324440" cy="13244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0"/>
            <p:cNvSpPr/>
            <p:nvPr/>
          </p:nvSpPr>
          <p:spPr>
            <a:xfrm>
              <a:off x="8042040" y="37692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Proble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11"/>
            <p:cNvSpPr/>
            <p:nvPr/>
          </p:nvSpPr>
          <p:spPr>
            <a:xfrm>
              <a:off x="8416800" y="651600"/>
              <a:ext cx="37476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Hypothesi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12"/>
            <p:cNvSpPr/>
            <p:nvPr/>
          </p:nvSpPr>
          <p:spPr>
            <a:xfrm>
              <a:off x="8267040" y="10638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Fac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3"/>
            <p:cNvSpPr/>
            <p:nvPr/>
          </p:nvSpPr>
          <p:spPr>
            <a:xfrm>
              <a:off x="7817400" y="10638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Analysi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14"/>
            <p:cNvSpPr/>
            <p:nvPr/>
          </p:nvSpPr>
          <p:spPr>
            <a:xfrm>
              <a:off x="7692120" y="6516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Solu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15"/>
            <p:cNvSpPr/>
            <p:nvPr/>
          </p:nvSpPr>
          <p:spPr>
            <a:xfrm rot="18000000">
              <a:off x="8525520" y="426600"/>
              <a:ext cx="49680" cy="224640"/>
            </a:xfrm>
            <a:custGeom>
              <a:avLst/>
              <a:gdLst>
                <a:gd name="textAreaLeft" fmla="*/ 6480 w 49680"/>
                <a:gd name="textAreaRight" fmla="*/ 43200 w 4968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utoShape 16"/>
            <p:cNvSpPr/>
            <p:nvPr/>
          </p:nvSpPr>
          <p:spPr>
            <a:xfrm rot="900000">
              <a:off x="8691840" y="976320"/>
              <a:ext cx="49320" cy="225000"/>
            </a:xfrm>
            <a:custGeom>
              <a:avLst/>
              <a:gdLst>
                <a:gd name="textAreaLeft" fmla="*/ 6480 w 49320"/>
                <a:gd name="textAreaRight" fmla="*/ 42840 w 49320"/>
                <a:gd name="textAreaTop" fmla="*/ 39240 h 225000"/>
                <a:gd name="textAreaBottom" fmla="*/ 16308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7"/>
            <p:cNvSpPr/>
            <p:nvPr/>
          </p:nvSpPr>
          <p:spPr>
            <a:xfrm rot="5400000">
              <a:off x="8204040" y="1301400"/>
              <a:ext cx="50040" cy="224640"/>
            </a:xfrm>
            <a:custGeom>
              <a:avLst/>
              <a:gdLst>
                <a:gd name="textAreaLeft" fmla="*/ 6480 w 50040"/>
                <a:gd name="textAreaRight" fmla="*/ 43560 w 5004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8"/>
            <p:cNvSpPr/>
            <p:nvPr/>
          </p:nvSpPr>
          <p:spPr>
            <a:xfrm rot="9900000">
              <a:off x="7716960" y="975960"/>
              <a:ext cx="49680" cy="225000"/>
            </a:xfrm>
            <a:custGeom>
              <a:avLst/>
              <a:gdLst>
                <a:gd name="textAreaLeft" fmla="*/ 6480 w 49680"/>
                <a:gd name="textAreaRight" fmla="*/ 43200 w 49680"/>
                <a:gd name="textAreaTop" fmla="*/ 39240 h 225000"/>
                <a:gd name="textAreaBottom" fmla="*/ 16308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9"/>
            <p:cNvSpPr/>
            <p:nvPr/>
          </p:nvSpPr>
          <p:spPr>
            <a:xfrm rot="13500000">
              <a:off x="7904520" y="414000"/>
              <a:ext cx="49320" cy="224640"/>
            </a:xfrm>
            <a:custGeom>
              <a:avLst/>
              <a:gdLst>
                <a:gd name="textAreaLeft" fmla="*/ 6480 w 49320"/>
                <a:gd name="textAreaRight" fmla="*/ 42840 w 4932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93F1-3059-4EBB-A39A-34556BDF4B5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ing th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360" y="2057400"/>
            <a:ext cx="84232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is a tentative explanation for an observation that can be tested (i.e. proved or disproved) by further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mport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end - Figuring out the solution to the problem, i.e. "hypothesizing", before you start will help build a roadmap for approaching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Basic Con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 can be expressed as possible root cause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ing down the problem into key drivers (root causes) can help formulate 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7467480" y="152280"/>
            <a:ext cx="1524240" cy="1524240"/>
            <a:chOff x="7467480" y="152280"/>
            <a:chExt cx="1524240" cy="1524240"/>
          </a:xfrm>
        </p:grpSpPr>
        <p:sp>
          <p:nvSpPr>
            <p:cNvPr id="136" name="Oval 7"/>
            <p:cNvSpPr/>
            <p:nvPr/>
          </p:nvSpPr>
          <p:spPr>
            <a:xfrm>
              <a:off x="7467480" y="152280"/>
              <a:ext cx="1524240" cy="152424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7567200" y="252000"/>
              <a:ext cx="1324440" cy="13244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8042040" y="37692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Proble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0"/>
            <p:cNvSpPr/>
            <p:nvPr/>
          </p:nvSpPr>
          <p:spPr>
            <a:xfrm>
              <a:off x="8416800" y="651600"/>
              <a:ext cx="37476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Hypothesi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8267040" y="10638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Fac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2"/>
            <p:cNvSpPr/>
            <p:nvPr/>
          </p:nvSpPr>
          <p:spPr>
            <a:xfrm>
              <a:off x="7817400" y="10638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Analysi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13"/>
            <p:cNvSpPr/>
            <p:nvPr/>
          </p:nvSpPr>
          <p:spPr>
            <a:xfrm>
              <a:off x="7692120" y="6516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Solu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14"/>
            <p:cNvSpPr/>
            <p:nvPr/>
          </p:nvSpPr>
          <p:spPr>
            <a:xfrm rot="18000000">
              <a:off x="8525520" y="426600"/>
              <a:ext cx="49680" cy="224640"/>
            </a:xfrm>
            <a:custGeom>
              <a:avLst/>
              <a:gdLst>
                <a:gd name="textAreaLeft" fmla="*/ 6480 w 49680"/>
                <a:gd name="textAreaRight" fmla="*/ 43200 w 4968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5"/>
            <p:cNvSpPr/>
            <p:nvPr/>
          </p:nvSpPr>
          <p:spPr>
            <a:xfrm rot="900000">
              <a:off x="8691840" y="976320"/>
              <a:ext cx="49320" cy="225000"/>
            </a:xfrm>
            <a:custGeom>
              <a:avLst/>
              <a:gdLst>
                <a:gd name="textAreaLeft" fmla="*/ 6480 w 49320"/>
                <a:gd name="textAreaRight" fmla="*/ 42840 w 49320"/>
                <a:gd name="textAreaTop" fmla="*/ 39240 h 225000"/>
                <a:gd name="textAreaBottom" fmla="*/ 16308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6"/>
            <p:cNvSpPr/>
            <p:nvPr/>
          </p:nvSpPr>
          <p:spPr>
            <a:xfrm rot="5400000">
              <a:off x="8204040" y="1301400"/>
              <a:ext cx="50040" cy="224640"/>
            </a:xfrm>
            <a:custGeom>
              <a:avLst/>
              <a:gdLst>
                <a:gd name="textAreaLeft" fmla="*/ 6480 w 50040"/>
                <a:gd name="textAreaRight" fmla="*/ 43560 w 5004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utoShape 17"/>
            <p:cNvSpPr/>
            <p:nvPr/>
          </p:nvSpPr>
          <p:spPr>
            <a:xfrm rot="9900000">
              <a:off x="7716960" y="975960"/>
              <a:ext cx="49680" cy="225000"/>
            </a:xfrm>
            <a:custGeom>
              <a:avLst/>
              <a:gdLst>
                <a:gd name="textAreaLeft" fmla="*/ 6480 w 49680"/>
                <a:gd name="textAreaRight" fmla="*/ 43200 w 49680"/>
                <a:gd name="textAreaTop" fmla="*/ 39240 h 225000"/>
                <a:gd name="textAreaBottom" fmla="*/ 16308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18"/>
            <p:cNvSpPr/>
            <p:nvPr/>
          </p:nvSpPr>
          <p:spPr>
            <a:xfrm rot="13500000">
              <a:off x="7904520" y="414000"/>
              <a:ext cx="49320" cy="224640"/>
            </a:xfrm>
            <a:custGeom>
              <a:avLst/>
              <a:gdLst>
                <a:gd name="textAreaLeft" fmla="*/ 6480 w 49320"/>
                <a:gd name="textAreaRight" fmla="*/ 42840 w 4932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315200" y="6448320"/>
            <a:ext cx="1828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C603-1259-4FB7-8B61-3DCDF18F61A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8423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ng the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0360" y="2160360"/>
            <a:ext cx="8423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ful information (has merit – not false) that is qualitative (expert opinions) or quantitative (measurable performance) to your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mpor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ing relevant data and information is a critical step in supporting the analyses required for proving or disproving the hypo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asic Concep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where to 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how to filter through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how to verify – Has happened in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how to apply – Relates to what you are trying to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7467480" y="152280"/>
            <a:ext cx="1524240" cy="1524240"/>
            <a:chOff x="7467480" y="152280"/>
            <a:chExt cx="1524240" cy="1524240"/>
          </a:xfrm>
        </p:grpSpPr>
        <p:sp>
          <p:nvSpPr>
            <p:cNvPr id="152" name="Oval 5"/>
            <p:cNvSpPr/>
            <p:nvPr/>
          </p:nvSpPr>
          <p:spPr>
            <a:xfrm>
              <a:off x="7467480" y="152280"/>
              <a:ext cx="1524240" cy="152424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>
              <a:off x="7567200" y="252000"/>
              <a:ext cx="1324440" cy="13244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7"/>
            <p:cNvSpPr/>
            <p:nvPr/>
          </p:nvSpPr>
          <p:spPr>
            <a:xfrm>
              <a:off x="8042040" y="37692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Proble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>
              <a:off x="8416800" y="651600"/>
              <a:ext cx="37476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Hypothesi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utoShape 9"/>
            <p:cNvSpPr/>
            <p:nvPr/>
          </p:nvSpPr>
          <p:spPr>
            <a:xfrm>
              <a:off x="8267040" y="10638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Fac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10"/>
            <p:cNvSpPr/>
            <p:nvPr/>
          </p:nvSpPr>
          <p:spPr>
            <a:xfrm>
              <a:off x="7817400" y="10638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Analysi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7692120" y="651600"/>
              <a:ext cx="374400" cy="324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a50021"/>
                  </a:solidFill>
                  <a:latin typeface="Arial Narrow"/>
                </a:rPr>
                <a:t>Solu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12"/>
            <p:cNvSpPr/>
            <p:nvPr/>
          </p:nvSpPr>
          <p:spPr>
            <a:xfrm rot="18000000">
              <a:off x="8525520" y="426600"/>
              <a:ext cx="49680" cy="224640"/>
            </a:xfrm>
            <a:custGeom>
              <a:avLst/>
              <a:gdLst>
                <a:gd name="textAreaLeft" fmla="*/ 6480 w 49680"/>
                <a:gd name="textAreaRight" fmla="*/ 43200 w 4968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3"/>
            <p:cNvSpPr/>
            <p:nvPr/>
          </p:nvSpPr>
          <p:spPr>
            <a:xfrm rot="900000">
              <a:off x="8691840" y="976320"/>
              <a:ext cx="49320" cy="225000"/>
            </a:xfrm>
            <a:custGeom>
              <a:avLst/>
              <a:gdLst>
                <a:gd name="textAreaLeft" fmla="*/ 6480 w 49320"/>
                <a:gd name="textAreaRight" fmla="*/ 42840 w 49320"/>
                <a:gd name="textAreaTop" fmla="*/ 39240 h 225000"/>
                <a:gd name="textAreaBottom" fmla="*/ 16308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4"/>
            <p:cNvSpPr/>
            <p:nvPr/>
          </p:nvSpPr>
          <p:spPr>
            <a:xfrm rot="5400000">
              <a:off x="8204040" y="1301400"/>
              <a:ext cx="50040" cy="224640"/>
            </a:xfrm>
            <a:custGeom>
              <a:avLst/>
              <a:gdLst>
                <a:gd name="textAreaLeft" fmla="*/ 6480 w 50040"/>
                <a:gd name="textAreaRight" fmla="*/ 43560 w 5004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 rot="9900000">
              <a:off x="7716960" y="975960"/>
              <a:ext cx="49680" cy="225000"/>
            </a:xfrm>
            <a:custGeom>
              <a:avLst/>
              <a:gdLst>
                <a:gd name="textAreaLeft" fmla="*/ 6480 w 49680"/>
                <a:gd name="textAreaRight" fmla="*/ 43200 w 49680"/>
                <a:gd name="textAreaTop" fmla="*/ 39240 h 225000"/>
                <a:gd name="textAreaBottom" fmla="*/ 16308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16"/>
            <p:cNvSpPr/>
            <p:nvPr/>
          </p:nvSpPr>
          <p:spPr>
            <a:xfrm rot="13500000">
              <a:off x="7904520" y="414000"/>
              <a:ext cx="49320" cy="224640"/>
            </a:xfrm>
            <a:custGeom>
              <a:avLst/>
              <a:gdLst>
                <a:gd name="textAreaLeft" fmla="*/ 6480 w 49320"/>
                <a:gd name="textAreaRight" fmla="*/ 42840 w 49320"/>
                <a:gd name="textAreaTop" fmla="*/ 39240 h 224640"/>
                <a:gd name="textAreaBottom" fmla="*/ 16308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17:21:26Z</dcterms:created>
  <dc:creator>Matt H. Evans</dc:creator>
  <dc:description/>
  <dc:language>en-US</dc:language>
  <cp:lastModifiedBy>Bright</cp:lastModifiedBy>
  <dcterms:modified xsi:type="dcterms:W3CDTF">2013-08-22T09:57:52Z</dcterms:modified>
  <cp:revision>272</cp:revision>
  <dc:subject/>
  <dc:title>Analytical Thin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T Templates Version">
    <vt:lpwstr>1.0</vt:lpwstr>
  </property>
</Properties>
</file>